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B3B-266F-443B-836C-115EE5D4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2B6-2314-4254-AFAD-4E4D92B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350-C8CE-4019-8196-7E78A6E2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6DC-CA20-4848-9ADD-65B3FE2F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DC5-6A28-41F3-824B-60C9C6C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3B8-EF3D-4F4A-B1D5-936EC907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EBC-5B87-4634-948D-5C43A9A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558-8246-4970-84EA-6C509B6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2A4-45A9-460B-862E-CDF41B0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5D1-9E7F-4E37-BA3D-29408B9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61E-DD76-4003-B917-9027D7F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DD6-A7AD-4190-BFC2-3C87194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FE3F-601B-4F5E-A2AD-3EE7BAAD4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gují fakulty připravující učitele na vznik RVP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a Coufal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koly pedagogických fakul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námení učitelů fakult s RV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racování nových studijních oborů a jejich předložení k akredit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ahová inovace stávajících studijních plán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ěny v pojetí jednotlivých předmě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životní vzdělá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orba učebnic a dalších materiá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známení učitelů fakult s RV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ořit školní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zdělávací pro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souladu 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V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286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it budoucí uči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0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pracování nových studijních oborů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ejich předložení k akredit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4648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ovídá struktura studijních oborů založená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vouoborovém vzdělávání učitelů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třebám praxe?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905120"/>
            <a:ext cx="1828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sahová inovace stávajících studijníc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án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šířit spolupráci mezi odbornými katedrami a katedrami pedagogiky a psychologie při výuce odborných didakt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ožnit studentům zažít již během studia „na vlastní kůži“ zrušení hranic mezi jednotlivými předměty, rozšířit vzájemnou spolupráci odborných kateder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0574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Úkol: T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ěsněji propojit předmětové didaktiky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 pedagogickými a psychologickými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isciplín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měny v pojetí jednotlivých předmět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600200"/>
            <a:ext cx="7315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okoškolské studium je často poslední možností, jak „přetvořit“ učitele a jeho prostřednictvím změnit vzdělávání na základní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řední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á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733920"/>
            <a:ext cx="487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038480"/>
            <a:ext cx="4419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962520"/>
            <a:ext cx="586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7227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oživotní vzděláván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í realiz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šího vzdělávání učite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dalšího vzděl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191120"/>
            <a:ext cx="358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240048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)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vorba učebnic a dalších materiál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ik týmů sest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ch z učitelů základních a středních škol, z vysokoškolských učitelů i dalších odborných pracovník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733920"/>
            <a:ext cx="32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5527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2193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spěšnost rámcových vzdělávacích programů bude záviset na učitelích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2767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33864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6:00:14Z</dcterms:created>
  <dc:creator>velitel-maminka</dc:creator>
  <dc:description/>
  <dc:language>en-US</dc:language>
  <cp:lastModifiedBy>velitel-maminka</cp:lastModifiedBy>
  <dcterms:modified xsi:type="dcterms:W3CDTF">2005-04-26T20:34:21Z</dcterms:modified>
  <cp:revision>9</cp:revision>
  <dc:subject/>
  <dc:title>RÁMCOVÉ VZDĚLÁVACÍ PROGRAMY A INTEGRACE V PŘÍPRAVĚ UČITELŮ </dc:title>
</cp:coreProperties>
</file>