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EFF82-1535-4888-907E-67E073AC6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2DC57-EBDB-429D-844F-AECBDC70C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E03BE-4356-4D78-8C0A-E3DA9AD32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E049E-56C2-4DB9-8282-F2302BDEC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59A2-33F0-48B3-AF47-1F8F4D61C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E359A-4C26-4DCF-A876-01077736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DF0A7-04DD-4154-9275-CD5BF6BDE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1663E-7731-4E6D-A781-3F0ED7847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40443-0394-41FA-B54C-5DBDF5205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91F7-36BE-45AA-82AE-BC0BD44A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E588C-4772-46F9-A51C-FED0772C8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9180-53D1-4AB8-823C-704F110E5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A30D-507A-44B1-AE4F-0A45A227798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ožnosti experimentálního ověření Maxwellových rovn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clav Hav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edra obecné fyzik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E - ZČU v Plz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333000"/>
            <a:ext cx="8229600" cy="5792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Z toho vyplývá, že </a:t>
            </a:r>
            <a:endParaRPr b="0" lang="en-US" sz="1800" spc="-1" strike="noStrike">
              <a:solidFill>
                <a:srgbClr val="000000"/>
              </a:solidFill>
              <a:latin typeface="Arial"/>
            </a:endParaRPr>
          </a:p>
        </p:txBody>
      </p:sp>
      <p:sp>
        <p:nvSpPr>
          <p:cNvPr id="119"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2700360" y="692280"/>
          <a:ext cx="3527280" cy="944280"/>
        </p:xfrm>
        <a:graphic>
          <a:graphicData uri="http://schemas.openxmlformats.org/presentationml/2006/ole">
            <p:oleObj r:id="rId1" spid="">
              <p:embed/>
              <p:pic>
                <p:nvPicPr>
                  <p:cNvPr id="121" name="" descr=""/>
                  <p:cNvPicPr/>
                  <p:nvPr/>
                </p:nvPicPr>
                <p:blipFill>
                  <a:blip r:embed="rId2"/>
                  <a:stretch/>
                </p:blipFill>
                <p:spPr>
                  <a:xfrm>
                    <a:off x="2700360" y="692280"/>
                    <a:ext cx="3527280" cy="944280"/>
                  </a:xfrm>
                  <a:prstGeom prst="rect">
                    <a:avLst/>
                  </a:prstGeom>
                  <a:ln w="0">
                    <a:noFill/>
                  </a:ln>
                </p:spPr>
              </p:pic>
            </p:oleObj>
          </a:graphicData>
        </a:graphic>
      </p:graphicFrame>
      <p:sp>
        <p:nvSpPr>
          <p:cNvPr id="122" name=""/>
          <p:cNvSpPr/>
          <p:nvPr/>
        </p:nvSpPr>
        <p:spPr>
          <a:xfrm>
            <a:off x="0" y="1788840"/>
            <a:ext cx="8820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ea typeface="Times New Roman"/>
              </a:rPr>
              <a:t>Změnu magnetického toku provedeme např. tak, že proud ve vodiči komutujeme. Měříme potom napěťový impuls v potenciálometru, který bude úměrný této změně.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ea typeface="Times New Roman"/>
              </a:rPr>
              <a:t>	</a:t>
            </a:r>
            <a:endParaRPr b="0" lang="en-US" sz="1800" spc="-1" strike="noStrike">
              <a:solidFill>
                <a:srgbClr val="000000"/>
              </a:solidFill>
              <a:latin typeface="Arial"/>
            </a:endParaRPr>
          </a:p>
        </p:txBody>
      </p:sp>
      <p:graphicFrame>
        <p:nvGraphicFramePr>
          <p:cNvPr id="123" name=""/>
          <p:cNvGraphicFramePr/>
          <p:nvPr/>
        </p:nvGraphicFramePr>
        <p:xfrm>
          <a:off x="-4349880" y="3005280"/>
          <a:ext cx="1933560" cy="390240"/>
        </p:xfrm>
        <a:graphic>
          <a:graphicData uri="http://schemas.openxmlformats.org/presentationml/2006/ole">
            <p:oleObj r:id="rId3" spid="">
              <p:embed/>
              <p:pic>
                <p:nvPicPr>
                  <p:cNvPr id="124" name="" descr=""/>
                  <p:cNvPicPr/>
                  <p:nvPr/>
                </p:nvPicPr>
                <p:blipFill>
                  <a:blip r:embed="rId4"/>
                  <a:stretch/>
                </p:blipFill>
                <p:spPr>
                  <a:xfrm>
                    <a:off x="-4349880" y="3005280"/>
                    <a:ext cx="1933560" cy="390240"/>
                  </a:xfrm>
                  <a:prstGeom prst="rect">
                    <a:avLst/>
                  </a:prstGeom>
                  <a:ln w="0">
                    <a:noFill/>
                  </a:ln>
                </p:spPr>
              </p:pic>
            </p:oleObj>
          </a:graphicData>
        </a:graphic>
      </p:graphicFrame>
      <p:sp>
        <p:nvSpPr>
          <p:cNvPr id="125" name=""/>
          <p:cNvSpPr/>
          <p:nvPr/>
        </p:nvSpPr>
        <p:spPr>
          <a:xfrm>
            <a:off x="250920" y="3668400"/>
            <a:ext cx="8748720" cy="267552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882880"/>
                <a:tab algn="r" pos="5765760"/>
                <a:tab algn="l" pos="6400800"/>
                <a:tab algn="l" pos="7315200"/>
                <a:tab algn="l" pos="8229600"/>
                <a:tab algn="l" pos="9144000"/>
                <a:tab algn="l" pos="10058400"/>
              </a:tabLst>
            </a:pPr>
            <a:r>
              <a:rPr b="0" lang="cs-CZ" sz="1200" spc="-1" strike="noStrike">
                <a:solidFill>
                  <a:srgbClr val="000000"/>
                </a:solidFill>
                <a:latin typeface="Arial"/>
                <a:ea typeface="Times New Roman"/>
              </a:rPr>
              <a:t>                        </a:t>
            </a:r>
            <a:r>
              <a:rPr b="0" lang="cs-CZ" sz="1200" spc="-1" strike="noStrike">
                <a:solidFill>
                  <a:srgbClr val="000000"/>
                </a:solidFill>
                <a:latin typeface="Arial"/>
                <a:ea typeface="Times New Roman"/>
              </a:rPr>
              <a:t>(5)</a:t>
            </a:r>
            <a:endParaRPr b="0" lang="en-US" sz="1200" spc="-1" strike="noStrike">
              <a:solidFill>
                <a:srgbClr val="000000"/>
              </a:solidFill>
              <a:latin typeface="Arial"/>
            </a:endParaRPr>
          </a:p>
          <a:p>
            <a:pPr>
              <a:lnSpc>
                <a:spcPct val="125000"/>
              </a:lnSpc>
              <a:tabLst>
                <a:tab algn="l" pos="0"/>
                <a:tab algn="ctr" pos="2882880"/>
                <a:tab algn="r" pos="5765760"/>
                <a:tab algn="l" pos="6400800"/>
                <a:tab algn="l" pos="7315200"/>
                <a:tab algn="l" pos="8229600"/>
                <a:tab algn="l" pos="9144000"/>
                <a:tab algn="l" pos="10058400"/>
              </a:tabLst>
            </a:pPr>
            <a:r>
              <a:rPr b="1" lang="cs-CZ" sz="1800" spc="-1" strike="noStrike">
                <a:solidFill>
                  <a:srgbClr val="333399"/>
                </a:solidFill>
                <a:latin typeface="Arial"/>
                <a:ea typeface="Times New Roman"/>
              </a:rPr>
              <a:t>Napěťový impuls může být měřen buď pomocí balistického galvanometru nebo elektronického integrátoru.</a:t>
            </a:r>
            <a:endParaRPr b="0" lang="en-US" sz="1800" spc="-1" strike="noStrike">
              <a:solidFill>
                <a:srgbClr val="000000"/>
              </a:solidFill>
              <a:latin typeface="Arial"/>
            </a:endParaRPr>
          </a:p>
          <a:p>
            <a:pPr>
              <a:lnSpc>
                <a:spcPct val="125000"/>
              </a:lnSpc>
              <a:tabLst>
                <a:tab algn="l" pos="0"/>
                <a:tab algn="ctr" pos="2882880"/>
                <a:tab algn="r" pos="5765760"/>
                <a:tab algn="l" pos="6400800"/>
                <a:tab algn="l" pos="7315200"/>
                <a:tab algn="l" pos="8229600"/>
                <a:tab algn="l" pos="9144000"/>
                <a:tab algn="l" pos="10058400"/>
              </a:tabLst>
            </a:pPr>
            <a:r>
              <a:rPr b="1" lang="cs-CZ" sz="1800" spc="-1" strike="noStrike">
                <a:solidFill>
                  <a:srgbClr val="333399"/>
                </a:solidFill>
                <a:latin typeface="Arial"/>
                <a:ea typeface="Times New Roman"/>
              </a:rPr>
              <a:t>Aby se dosáhlo měřitelných výsledků, je nutné, aby proud vstupující do smyčky potenciálometru byl řádově 1000 A. Toho se docílí např. tak, že proud 1 A bude zaveden do cívky s 1200 závity a potenciálometr provlečen dutinou této cívky, jak je naznačeno v obr.3.</a:t>
            </a:r>
            <a:endParaRPr b="0" lang="en-US" sz="1800" spc="-1" strike="noStrike">
              <a:solidFill>
                <a:srgbClr val="000000"/>
              </a:solidFill>
              <a:latin typeface="Arial"/>
            </a:endParaRPr>
          </a:p>
          <a:p>
            <a:pPr>
              <a:lnSpc>
                <a:spcPct val="125000"/>
              </a:lnSpc>
              <a:tabLst>
                <a:tab algn="l" pos="0"/>
                <a:tab algn="ctr" pos="2882880"/>
                <a:tab algn="r" pos="57657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7" name=""/>
          <p:cNvGraphicFramePr/>
          <p:nvPr/>
        </p:nvGraphicFramePr>
        <p:xfrm>
          <a:off x="3276720" y="3068640"/>
          <a:ext cx="3024000" cy="611280"/>
        </p:xfrm>
        <a:graphic>
          <a:graphicData uri="http://schemas.openxmlformats.org/presentationml/2006/ole">
            <p:oleObj r:id="rId5" spid="">
              <p:embed/>
              <p:pic>
                <p:nvPicPr>
                  <p:cNvPr id="128" name="" descr=""/>
                  <p:cNvPicPr/>
                  <p:nvPr/>
                </p:nvPicPr>
                <p:blipFill>
                  <a:blip r:embed="rId6"/>
                  <a:stretch/>
                </p:blipFill>
                <p:spPr>
                  <a:xfrm>
                    <a:off x="3276720" y="3068640"/>
                    <a:ext cx="3024000" cy="6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r.</a:t>
            </a:r>
            <a:endParaRPr b="0" lang="en-US" sz="1800" spc="-1" strike="noStrike">
              <a:solidFill>
                <a:srgbClr val="000000"/>
              </a:solidFill>
              <a:latin typeface="Arial"/>
            </a:endParaRPr>
          </a:p>
        </p:txBody>
      </p:sp>
      <p:grpSp>
        <p:nvGrpSpPr>
          <p:cNvPr id="130" name=""/>
          <p:cNvGrpSpPr/>
          <p:nvPr/>
        </p:nvGrpSpPr>
        <p:grpSpPr>
          <a:xfrm>
            <a:off x="1949400" y="972360"/>
            <a:ext cx="3835080" cy="2532600"/>
            <a:chOff x="1949400" y="972360"/>
            <a:chExt cx="3835080" cy="2532600"/>
          </a:xfrm>
        </p:grpSpPr>
        <p:sp>
          <p:nvSpPr>
            <p:cNvPr id="131" name=""/>
            <p:cNvSpPr/>
            <p:nvPr/>
          </p:nvSpPr>
          <p:spPr>
            <a:xfrm>
              <a:off x="3288600" y="299916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80240" y="332496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18080" y="1515240"/>
              <a:ext cx="760680" cy="507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963160" y="115308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3361680" y="140616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36" name=""/>
            <p:cNvSpPr/>
            <p:nvPr/>
          </p:nvSpPr>
          <p:spPr>
            <a:xfrm flipV="1">
              <a:off x="5388120" y="1333800"/>
              <a:ext cx="7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nvGrpSpPr>
            <p:cNvPr id="137" name=""/>
            <p:cNvGrpSpPr/>
            <p:nvPr/>
          </p:nvGrpSpPr>
          <p:grpSpPr>
            <a:xfrm>
              <a:off x="1949400" y="972360"/>
              <a:ext cx="3474360" cy="2352600"/>
              <a:chOff x="1949400" y="972360"/>
              <a:chExt cx="3474360" cy="2352600"/>
            </a:xfrm>
          </p:grpSpPr>
          <p:sp>
            <p:nvSpPr>
              <p:cNvPr id="138" name=""/>
              <p:cNvSpPr/>
              <p:nvPr/>
            </p:nvSpPr>
            <p:spPr>
              <a:xfrm>
                <a:off x="3179880" y="2529360"/>
                <a:ext cx="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88600" y="2529360"/>
                <a:ext cx="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1949400" y="1732320"/>
                <a:ext cx="2514600" cy="914400"/>
                <a:chOff x="1949400" y="1732320"/>
                <a:chExt cx="2514600" cy="914400"/>
              </a:xfrm>
            </p:grpSpPr>
            <p:sp>
              <p:nvSpPr>
                <p:cNvPr id="141" name=""/>
                <p:cNvSpPr/>
                <p:nvPr/>
              </p:nvSpPr>
              <p:spPr>
                <a:xfrm>
                  <a:off x="1949400" y="1732320"/>
                  <a:ext cx="2514600" cy="91440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057400" y="1840320"/>
                  <a:ext cx="2286000" cy="685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2890440" y="1189440"/>
                <a:ext cx="90360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záv.</a:t>
                </a:r>
                <a:endParaRPr b="0" lang="en-US" sz="1200" spc="-1" strike="noStrike">
                  <a:solidFill>
                    <a:srgbClr val="000000"/>
                  </a:solidFill>
                  <a:latin typeface="Arial"/>
                </a:endParaRPr>
              </a:p>
            </p:txBody>
          </p:sp>
          <p:sp>
            <p:nvSpPr>
              <p:cNvPr id="144" name=""/>
              <p:cNvSpPr/>
              <p:nvPr/>
            </p:nvSpPr>
            <p:spPr>
              <a:xfrm>
                <a:off x="2927160" y="1442880"/>
                <a:ext cx="107640" cy="720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5" name=""/>
              <p:cNvSpPr/>
              <p:nvPr/>
            </p:nvSpPr>
            <p:spPr>
              <a:xfrm>
                <a:off x="3288600" y="1442880"/>
                <a:ext cx="108000" cy="720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6" name=""/>
              <p:cNvSpPr/>
              <p:nvPr/>
            </p:nvSpPr>
            <p:spPr>
              <a:xfrm>
                <a:off x="2962800" y="1153080"/>
                <a:ext cx="2424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7" name=""/>
              <p:cNvSpPr/>
              <p:nvPr/>
            </p:nvSpPr>
            <p:spPr>
              <a:xfrm>
                <a:off x="3361680" y="1406520"/>
                <a:ext cx="2026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8" name=""/>
              <p:cNvSpPr/>
              <p:nvPr/>
            </p:nvSpPr>
            <p:spPr>
              <a:xfrm>
                <a:off x="4012920" y="1334160"/>
                <a:ext cx="433440" cy="14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315400" y="1334160"/>
                <a:ext cx="10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591800" y="972360"/>
                <a:ext cx="361800" cy="36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35360" y="1035000"/>
                <a:ext cx="253080" cy="217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sp>
          <p:nvSpPr>
            <p:cNvPr id="152" name=""/>
            <p:cNvSpPr/>
            <p:nvPr/>
          </p:nvSpPr>
          <p:spPr>
            <a:xfrm>
              <a:off x="2963160" y="1167840"/>
              <a:ext cx="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818080" y="1768680"/>
              <a:ext cx="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18080" y="2058120"/>
              <a:ext cx="75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578400" y="1732320"/>
              <a:ext cx="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2818080" y="1153080"/>
              <a:ext cx="2966400" cy="2351880"/>
              <a:chOff x="2818080" y="1153080"/>
              <a:chExt cx="2966400" cy="2351880"/>
            </a:xfrm>
          </p:grpSpPr>
          <p:sp>
            <p:nvSpPr>
              <p:cNvPr id="157" name=""/>
              <p:cNvSpPr/>
              <p:nvPr/>
            </p:nvSpPr>
            <p:spPr>
              <a:xfrm>
                <a:off x="3578760" y="2890440"/>
                <a:ext cx="9388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45600" y="2890440"/>
                <a:ext cx="9388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19080" y="299880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19080" y="336168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650400" y="3071160"/>
                <a:ext cx="832320" cy="32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átor</a:t>
                </a:r>
                <a:endParaRPr b="0" lang="en-US" sz="1200" spc="-1" strike="noStrike">
                  <a:solidFill>
                    <a:srgbClr val="000000"/>
                  </a:solidFill>
                  <a:latin typeface="Arial"/>
                </a:endParaRPr>
              </a:p>
            </p:txBody>
          </p:sp>
          <p:sp>
            <p:nvSpPr>
              <p:cNvPr id="162" name=""/>
              <p:cNvSpPr/>
              <p:nvPr/>
            </p:nvSpPr>
            <p:spPr>
              <a:xfrm>
                <a:off x="4881240" y="3035160"/>
                <a:ext cx="86832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ěřidlo</a:t>
                </a:r>
                <a:endParaRPr b="0" lang="en-US" sz="1200" spc="-1" strike="noStrike">
                  <a:solidFill>
                    <a:srgbClr val="000000"/>
                  </a:solidFill>
                  <a:latin typeface="Arial"/>
                </a:endParaRPr>
              </a:p>
            </p:txBody>
          </p:sp>
          <p:sp>
            <p:nvSpPr>
              <p:cNvPr id="163" name=""/>
              <p:cNvSpPr/>
              <p:nvPr/>
            </p:nvSpPr>
            <p:spPr>
              <a:xfrm>
                <a:off x="5243040" y="126144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87760" y="1153080"/>
                <a:ext cx="72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18080" y="1514880"/>
                <a:ext cx="759960" cy="542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Výsledky měření při komutaci proudu v cívce jsou v tabul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ívka 1200 závitů</a:t>
            </a:r>
            <a:endParaRPr b="0" lang="en-US" sz="1600" spc="-1" strike="noStrike">
              <a:solidFill>
                <a:srgbClr val="000000"/>
              </a:solidFill>
              <a:latin typeface="Arial"/>
            </a:endParaRPr>
          </a:p>
        </p:txBody>
      </p:sp>
      <p:graphicFrame>
        <p:nvGraphicFramePr>
          <p:cNvPr id="167" name=""/>
          <p:cNvGraphicFramePr/>
          <p:nvPr/>
        </p:nvGraphicFramePr>
        <p:xfrm>
          <a:off x="4572000" y="1600200"/>
          <a:ext cx="4114800" cy="4525920"/>
        </p:xfrm>
        <a:graphic>
          <a:graphicData uri="http://schemas.openxmlformats.org/drawingml/2006/table">
            <a:tbl>
              <a:tblPr/>
              <a:tblGrid>
                <a:gridCol w="2095560"/>
                <a:gridCol w="201924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 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 / m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57200" y="274680"/>
            <a:ext cx="8229600" cy="5851440"/>
          </a:xfrm>
          <a:prstGeom prst="rect">
            <a:avLst/>
          </a:prstGeom>
          <a:ln w="0">
            <a:noFill/>
          </a:ln>
        </p:spPr>
      </p:pic>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0" name=""/>
          <p:cNvGraphicFramePr/>
          <p:nvPr/>
        </p:nvGraphicFramePr>
        <p:xfrm>
          <a:off x="647640" y="861840"/>
          <a:ext cx="7740720" cy="4170600"/>
        </p:xfrm>
        <a:graphic>
          <a:graphicData uri="http://schemas.openxmlformats.org/presentationml/2006/ole">
            <p:oleObj progId="Excel.Sheet.12" r:id="rId2" spid="">
              <p:embed/>
              <p:pic>
                <p:nvPicPr>
                  <p:cNvPr id="171" name="" descr=""/>
                  <p:cNvPicPr/>
                  <p:nvPr/>
                </p:nvPicPr>
                <p:blipFill>
                  <a:blip r:embed="rId3"/>
                  <a:stretch/>
                </p:blipFill>
                <p:spPr>
                  <a:xfrm>
                    <a:off x="647640" y="861840"/>
                    <a:ext cx="7740720" cy="417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V rozmezí pozorovacích chyb je patrné, že napěťový impuls, který charakterizuje  hodnotu křivkového integrálu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7)</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je úměrný velikosti proudu protínajícího plochu omezenou integrační křivkou (tento proud je ovšem 1200.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Jako další pokus provedeme měření, kdy potenciálometr a tedy také integrační křivka prochází dvěma cívkami se 600 závity, jimiž prochází proud  1 A . Cívky jsou zapojeny do série a to v souhlasné i nesouhlasném směru. Výsledky jsou v přiložené tabulce.</a:t>
            </a:r>
            <a:endParaRPr b="0" lang="en-US" sz="1800" spc="-1" strike="noStrike">
              <a:solidFill>
                <a:srgbClr val="000000"/>
              </a:solidFill>
              <a:latin typeface="Arial"/>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4" name=""/>
          <p:cNvGraphicFramePr/>
          <p:nvPr/>
        </p:nvGraphicFramePr>
        <p:xfrm>
          <a:off x="2916360" y="895320"/>
          <a:ext cx="1252440" cy="969840"/>
        </p:xfrm>
        <a:graphic>
          <a:graphicData uri="http://schemas.openxmlformats.org/presentationml/2006/ole">
            <p:oleObj r:id="rId1" spid="">
              <p:embed/>
              <p:pic>
                <p:nvPicPr>
                  <p:cNvPr id="175" name="" descr=""/>
                  <p:cNvPicPr/>
                  <p:nvPr/>
                </p:nvPicPr>
                <p:blipFill>
                  <a:blip r:embed="rId2"/>
                  <a:stretch/>
                </p:blipFill>
                <p:spPr>
                  <a:xfrm>
                    <a:off x="2916360" y="895320"/>
                    <a:ext cx="1252440" cy="96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225000"/>
            <a:ext cx="8229600" cy="64436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vě cívky zapojené souhlasně</a:t>
            </a:r>
            <a:endParaRPr b="0" lang="en-US" sz="1800" spc="-1" strike="noStrike">
              <a:solidFill>
                <a:srgbClr val="000000"/>
              </a:solidFill>
              <a:latin typeface="Arial"/>
            </a:endParaRPr>
          </a:p>
        </p:txBody>
      </p:sp>
      <p:grpSp>
        <p:nvGrpSpPr>
          <p:cNvPr id="177" name=""/>
          <p:cNvGrpSpPr/>
          <p:nvPr/>
        </p:nvGrpSpPr>
        <p:grpSpPr>
          <a:xfrm>
            <a:off x="1949400" y="3163320"/>
            <a:ext cx="3835440" cy="2532600"/>
            <a:chOff x="1949400" y="3163320"/>
            <a:chExt cx="3835440" cy="2532600"/>
          </a:xfrm>
        </p:grpSpPr>
        <p:sp>
          <p:nvSpPr>
            <p:cNvPr id="178" name=""/>
            <p:cNvSpPr/>
            <p:nvPr/>
          </p:nvSpPr>
          <p:spPr>
            <a:xfrm>
              <a:off x="3180240" y="4720320"/>
              <a:ext cx="0" cy="79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88600" y="4720320"/>
              <a:ext cx="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78760" y="5081400"/>
              <a:ext cx="9388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845960" y="5081400"/>
              <a:ext cx="9388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19440" y="519012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19440" y="555264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650760" y="5262480"/>
              <a:ext cx="832320" cy="32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átor</a:t>
              </a:r>
              <a:endParaRPr b="0" lang="en-US" sz="1200" spc="-1" strike="noStrike">
                <a:solidFill>
                  <a:srgbClr val="000000"/>
                </a:solidFill>
                <a:latin typeface="Arial"/>
              </a:endParaRPr>
            </a:p>
          </p:txBody>
        </p:sp>
        <p:sp>
          <p:nvSpPr>
            <p:cNvPr id="185" name=""/>
            <p:cNvSpPr/>
            <p:nvPr/>
          </p:nvSpPr>
          <p:spPr>
            <a:xfrm>
              <a:off x="4881600" y="5226120"/>
              <a:ext cx="86832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ěřidlo</a:t>
              </a:r>
              <a:endParaRPr b="0" lang="en-US" sz="1200" spc="-1" strike="noStrike">
                <a:solidFill>
                  <a:srgbClr val="000000"/>
                </a:solidFill>
                <a:latin typeface="Arial"/>
              </a:endParaRPr>
            </a:p>
          </p:txBody>
        </p:sp>
        <p:sp>
          <p:nvSpPr>
            <p:cNvPr id="186" name=""/>
            <p:cNvSpPr/>
            <p:nvPr/>
          </p:nvSpPr>
          <p:spPr>
            <a:xfrm>
              <a:off x="3288600" y="519012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180240" y="551592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1949400" y="3923280"/>
              <a:ext cx="2514600" cy="914040"/>
              <a:chOff x="1949400" y="3923280"/>
              <a:chExt cx="2514600" cy="914040"/>
            </a:xfrm>
          </p:grpSpPr>
          <p:sp>
            <p:nvSpPr>
              <p:cNvPr id="189" name=""/>
              <p:cNvSpPr/>
              <p:nvPr/>
            </p:nvSpPr>
            <p:spPr>
              <a:xfrm>
                <a:off x="1949400" y="3923280"/>
                <a:ext cx="2514600" cy="9140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57400" y="4031280"/>
                <a:ext cx="2286000" cy="685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flipV="1">
              <a:off x="2667600" y="3344040"/>
              <a:ext cx="5760" cy="4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673360" y="3344040"/>
              <a:ext cx="2714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3" name=""/>
            <p:cNvSpPr/>
            <p:nvPr/>
          </p:nvSpPr>
          <p:spPr>
            <a:xfrm>
              <a:off x="3650760" y="3597480"/>
              <a:ext cx="173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4" name=""/>
            <p:cNvSpPr/>
            <p:nvPr/>
          </p:nvSpPr>
          <p:spPr>
            <a:xfrm>
              <a:off x="4012560" y="3525120"/>
              <a:ext cx="433440" cy="14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243400" y="345276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315760" y="3525120"/>
              <a:ext cx="10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388120" y="3344040"/>
              <a:ext cx="72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5388120" y="3524760"/>
              <a:ext cx="72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4591800" y="3163320"/>
              <a:ext cx="361800" cy="36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35720" y="3235680"/>
              <a:ext cx="281880" cy="217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01" name=""/>
            <p:cNvSpPr/>
            <p:nvPr/>
          </p:nvSpPr>
          <p:spPr>
            <a:xfrm>
              <a:off x="2599200" y="3801240"/>
              <a:ext cx="506520" cy="361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41680" y="375732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3" name=""/>
            <p:cNvSpPr/>
            <p:nvPr/>
          </p:nvSpPr>
          <p:spPr>
            <a:xfrm>
              <a:off x="2993400" y="375732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 name=""/>
            <p:cNvSpPr/>
            <p:nvPr/>
          </p:nvSpPr>
          <p:spPr>
            <a:xfrm>
              <a:off x="3227760" y="3801240"/>
              <a:ext cx="506520" cy="361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270240" y="375732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6" name=""/>
            <p:cNvSpPr/>
            <p:nvPr/>
          </p:nvSpPr>
          <p:spPr>
            <a:xfrm>
              <a:off x="3612600" y="375732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7" name=""/>
            <p:cNvSpPr/>
            <p:nvPr/>
          </p:nvSpPr>
          <p:spPr>
            <a:xfrm>
              <a:off x="3650760" y="3597480"/>
              <a:ext cx="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18080" y="4212720"/>
              <a:ext cx="687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záv.</a:t>
              </a:r>
              <a:endParaRPr b="0" lang="en-US" sz="1200" spc="-1" strike="noStrike">
                <a:solidFill>
                  <a:srgbClr val="000000"/>
                </a:solidFill>
                <a:latin typeface="Arial"/>
              </a:endParaRPr>
            </a:p>
          </p:txBody>
        </p:sp>
        <p:sp>
          <p:nvSpPr>
            <p:cNvPr id="209" name=""/>
            <p:cNvSpPr/>
            <p:nvPr/>
          </p:nvSpPr>
          <p:spPr>
            <a:xfrm flipV="1">
              <a:off x="3035160" y="3597480"/>
              <a:ext cx="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35160" y="3597480"/>
              <a:ext cx="2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288600" y="359748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431640" y="873000"/>
          <a:ext cx="8229600" cy="5692680"/>
        </p:xfrm>
        <a:graphic>
          <a:graphicData uri="http://schemas.openxmlformats.org/drawingml/2006/table">
            <a:tbl>
              <a:tblPr/>
              <a:tblGrid>
                <a:gridCol w="4114800"/>
                <a:gridCol w="4114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ěř. 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  / m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
          <p:cNvSpPr/>
          <p:nvPr/>
        </p:nvSpPr>
        <p:spPr>
          <a:xfrm>
            <a:off x="468360" y="189000"/>
            <a:ext cx="820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vě cívky po 600 závitech souhlasně, I = 1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68360" y="260280"/>
            <a:ext cx="8229600" cy="63007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esouhlasně zapojené cívky</a:t>
            </a:r>
            <a:endParaRPr b="0" lang="en-US" sz="1800" spc="-1" strike="noStrike">
              <a:solidFill>
                <a:srgbClr val="000000"/>
              </a:solidFill>
              <a:latin typeface="Arial"/>
            </a:endParaRPr>
          </a:p>
        </p:txBody>
      </p:sp>
      <p:sp>
        <p:nvSpPr>
          <p:cNvPr id="215" name=""/>
          <p:cNvSpPr/>
          <p:nvPr/>
        </p:nvSpPr>
        <p:spPr>
          <a:xfrm>
            <a:off x="3456000" y="285264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2124000" y="2384280"/>
            <a:ext cx="3835080" cy="2579400"/>
            <a:chOff x="2124000" y="2384280"/>
            <a:chExt cx="3835080" cy="2579400"/>
          </a:xfrm>
        </p:grpSpPr>
        <p:grpSp>
          <p:nvGrpSpPr>
            <p:cNvPr id="217" name=""/>
            <p:cNvGrpSpPr/>
            <p:nvPr/>
          </p:nvGrpSpPr>
          <p:grpSpPr>
            <a:xfrm>
              <a:off x="2124000" y="2384280"/>
              <a:ext cx="3835080" cy="2579400"/>
              <a:chOff x="2124000" y="2384280"/>
              <a:chExt cx="3835080" cy="2579400"/>
            </a:xfrm>
          </p:grpSpPr>
          <p:sp>
            <p:nvSpPr>
              <p:cNvPr id="218" name=""/>
              <p:cNvSpPr/>
              <p:nvPr/>
            </p:nvSpPr>
            <p:spPr>
              <a:xfrm>
                <a:off x="3354480" y="3988080"/>
                <a:ext cx="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463200" y="3988080"/>
                <a:ext cx="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753360" y="4349160"/>
                <a:ext cx="9388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020200" y="4349160"/>
                <a:ext cx="9388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93680" y="445788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93680" y="482076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25000" y="4530240"/>
                <a:ext cx="832320" cy="32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átor</a:t>
                </a:r>
                <a:endParaRPr b="0" lang="en-US" sz="1200" spc="-1" strike="noStrike">
                  <a:solidFill>
                    <a:srgbClr val="000000"/>
                  </a:solidFill>
                  <a:latin typeface="Arial"/>
                </a:endParaRPr>
              </a:p>
            </p:txBody>
          </p:sp>
          <p:sp>
            <p:nvSpPr>
              <p:cNvPr id="225" name=""/>
              <p:cNvSpPr/>
              <p:nvPr/>
            </p:nvSpPr>
            <p:spPr>
              <a:xfrm>
                <a:off x="5055840" y="4494240"/>
                <a:ext cx="86832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ěřidlo</a:t>
                </a:r>
                <a:endParaRPr b="0" lang="en-US" sz="1200" spc="-1" strike="noStrike">
                  <a:solidFill>
                    <a:srgbClr val="000000"/>
                  </a:solidFill>
                  <a:latin typeface="Arial"/>
                </a:endParaRPr>
              </a:p>
            </p:txBody>
          </p:sp>
          <p:sp>
            <p:nvSpPr>
              <p:cNvPr id="226" name=""/>
              <p:cNvSpPr/>
              <p:nvPr/>
            </p:nvSpPr>
            <p:spPr>
              <a:xfrm>
                <a:off x="3463200" y="445788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354480" y="478368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 name=""/>
              <p:cNvGrpSpPr/>
              <p:nvPr/>
            </p:nvGrpSpPr>
            <p:grpSpPr>
              <a:xfrm>
                <a:off x="2124000" y="3190680"/>
                <a:ext cx="2514600" cy="914400"/>
                <a:chOff x="2124000" y="3190680"/>
                <a:chExt cx="2514600" cy="914400"/>
              </a:xfrm>
            </p:grpSpPr>
            <p:sp>
              <p:nvSpPr>
                <p:cNvPr id="229" name=""/>
                <p:cNvSpPr/>
                <p:nvPr/>
              </p:nvSpPr>
              <p:spPr>
                <a:xfrm>
                  <a:off x="2124000" y="3190680"/>
                  <a:ext cx="2514600" cy="91440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232000" y="3298680"/>
                  <a:ext cx="2286000" cy="685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flipV="1">
                <a:off x="2841840" y="2611440"/>
                <a:ext cx="5760" cy="4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847600" y="2553120"/>
                <a:ext cx="2714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
              <p:cNvSpPr/>
              <p:nvPr/>
            </p:nvSpPr>
            <p:spPr>
              <a:xfrm flipV="1">
                <a:off x="3463200" y="2818080"/>
                <a:ext cx="20991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4" name=""/>
              <p:cNvSpPr/>
              <p:nvPr/>
            </p:nvSpPr>
            <p:spPr>
              <a:xfrm>
                <a:off x="4187520" y="2745000"/>
                <a:ext cx="433440" cy="14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436720" y="2642760"/>
                <a:ext cx="2538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
              <p:cNvSpPr/>
              <p:nvPr/>
            </p:nvSpPr>
            <p:spPr>
              <a:xfrm>
                <a:off x="5499720" y="2715120"/>
                <a:ext cx="1083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7" name=""/>
              <p:cNvSpPr/>
              <p:nvPr/>
            </p:nvSpPr>
            <p:spPr>
              <a:xfrm>
                <a:off x="4766400" y="2384280"/>
                <a:ext cx="361800" cy="36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809960" y="2456640"/>
                <a:ext cx="281880" cy="217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39" name=""/>
              <p:cNvSpPr/>
              <p:nvPr/>
            </p:nvSpPr>
            <p:spPr>
              <a:xfrm>
                <a:off x="2773440" y="3069000"/>
                <a:ext cx="506520" cy="361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815920" y="302508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1" name=""/>
              <p:cNvSpPr/>
              <p:nvPr/>
            </p:nvSpPr>
            <p:spPr>
              <a:xfrm>
                <a:off x="3167640" y="302508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2" name=""/>
              <p:cNvSpPr/>
              <p:nvPr/>
            </p:nvSpPr>
            <p:spPr>
              <a:xfrm>
                <a:off x="3402000" y="3069000"/>
                <a:ext cx="506520" cy="361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444840" y="302508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4" name=""/>
              <p:cNvSpPr/>
              <p:nvPr/>
            </p:nvSpPr>
            <p:spPr>
              <a:xfrm>
                <a:off x="3786840" y="3025080"/>
                <a:ext cx="71640" cy="5148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5" name=""/>
              <p:cNvSpPr/>
              <p:nvPr/>
            </p:nvSpPr>
            <p:spPr>
              <a:xfrm>
                <a:off x="5562360" y="25750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46" name=""/>
              <p:cNvSpPr/>
              <p:nvPr/>
            </p:nvSpPr>
            <p:spPr>
              <a:xfrm flipV="1">
                <a:off x="5562360" y="2718360"/>
                <a:ext cx="72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3162240" y="289728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162240" y="2897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846600" y="2897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
          <p:cNvGraphicFramePr/>
          <p:nvPr/>
        </p:nvGraphicFramePr>
        <p:xfrm>
          <a:off x="468360" y="1160640"/>
          <a:ext cx="8229600" cy="5692680"/>
        </p:xfrm>
        <a:graphic>
          <a:graphicData uri="http://schemas.openxmlformats.org/drawingml/2006/table">
            <a:tbl>
              <a:tblPr/>
              <a:tblGrid>
                <a:gridCol w="4114800"/>
                <a:gridCol w="4114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ěř.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U / m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1" name=""/>
          <p:cNvSpPr/>
          <p:nvPr/>
        </p:nvSpPr>
        <p:spPr>
          <a:xfrm>
            <a:off x="431640" y="260280"/>
            <a:ext cx="828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vě cívky po 600 závitech zapojeny nesouhlasně , I = 1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ruhým krokem k ověření platnosti vztahu (1a)  je důkaz existence magnetického pole vytvořeného posuvným proudem.  K tomu lze užít přípravku podle obrázku </a:t>
            </a:r>
            <a:endParaRPr b="0" lang="en-US" sz="2400" spc="-1" strike="noStrike">
              <a:solidFill>
                <a:srgbClr val="000000"/>
              </a:solidFill>
              <a:latin typeface="Arial"/>
            </a:endParaRPr>
          </a:p>
        </p:txBody>
      </p:sp>
      <p:grpSp>
        <p:nvGrpSpPr>
          <p:cNvPr id="253" name=""/>
          <p:cNvGrpSpPr/>
          <p:nvPr/>
        </p:nvGrpSpPr>
        <p:grpSpPr>
          <a:xfrm>
            <a:off x="2160720" y="3141000"/>
            <a:ext cx="4113720" cy="1629000"/>
            <a:chOff x="2160720" y="3141000"/>
            <a:chExt cx="4113720" cy="1629000"/>
          </a:xfrm>
        </p:grpSpPr>
        <p:sp>
          <p:nvSpPr>
            <p:cNvPr id="254" name=""/>
            <p:cNvSpPr/>
            <p:nvPr/>
          </p:nvSpPr>
          <p:spPr>
            <a:xfrm>
              <a:off x="2450880" y="3720600"/>
              <a:ext cx="209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450880" y="4263480"/>
              <a:ext cx="20991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56" name=""/>
            <p:cNvGrpSpPr/>
            <p:nvPr/>
          </p:nvGrpSpPr>
          <p:grpSpPr>
            <a:xfrm>
              <a:off x="2160720" y="3141000"/>
              <a:ext cx="4113720" cy="1629000"/>
              <a:chOff x="2160720" y="3141000"/>
              <a:chExt cx="4113720" cy="1629000"/>
            </a:xfrm>
          </p:grpSpPr>
          <p:grpSp>
            <p:nvGrpSpPr>
              <p:cNvPr id="257" name=""/>
              <p:cNvGrpSpPr/>
              <p:nvPr/>
            </p:nvGrpSpPr>
            <p:grpSpPr>
              <a:xfrm>
                <a:off x="2160720" y="3756960"/>
                <a:ext cx="325800" cy="505800"/>
                <a:chOff x="2160720" y="3756960"/>
                <a:chExt cx="325800" cy="505800"/>
              </a:xfrm>
            </p:grpSpPr>
            <p:sp>
              <p:nvSpPr>
                <p:cNvPr id="258" name=""/>
                <p:cNvSpPr/>
                <p:nvPr/>
              </p:nvSpPr>
              <p:spPr>
                <a:xfrm>
                  <a:off x="2160720" y="3756960"/>
                  <a:ext cx="325800" cy="50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2194920" y="3812400"/>
                  <a:ext cx="239400" cy="398160"/>
                  <a:chOff x="2194920" y="3812400"/>
                  <a:chExt cx="239400" cy="398160"/>
                </a:xfrm>
              </p:grpSpPr>
              <p:grpSp>
                <p:nvGrpSpPr>
                  <p:cNvPr id="260" name=""/>
                  <p:cNvGrpSpPr/>
                  <p:nvPr/>
                </p:nvGrpSpPr>
                <p:grpSpPr>
                  <a:xfrm>
                    <a:off x="2194920" y="3812400"/>
                    <a:ext cx="239400" cy="35280"/>
                    <a:chOff x="2194920" y="3812400"/>
                    <a:chExt cx="239400" cy="35280"/>
                  </a:xfrm>
                </p:grpSpPr>
                <p:sp>
                  <p:nvSpPr>
                    <p:cNvPr id="261" name=""/>
                    <p:cNvSpPr/>
                    <p:nvPr/>
                  </p:nvSpPr>
                  <p:spPr>
                    <a:xfrm>
                      <a:off x="2194920" y="3812400"/>
                      <a:ext cx="3384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2246040" y="3812400"/>
                      <a:ext cx="3420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2297520" y="3812400"/>
                      <a:ext cx="3384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4" name=""/>
                    <p:cNvSpPr/>
                    <p:nvPr/>
                  </p:nvSpPr>
                  <p:spPr>
                    <a:xfrm>
                      <a:off x="2349000" y="3812400"/>
                      <a:ext cx="3420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5" name=""/>
                    <p:cNvSpPr/>
                    <p:nvPr/>
                  </p:nvSpPr>
                  <p:spPr>
                    <a:xfrm>
                      <a:off x="2400480" y="3812400"/>
                      <a:ext cx="3384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266" name=""/>
                  <p:cNvGrpSpPr/>
                  <p:nvPr/>
                </p:nvGrpSpPr>
                <p:grpSpPr>
                  <a:xfrm>
                    <a:off x="2194920" y="3864600"/>
                    <a:ext cx="239400" cy="34560"/>
                    <a:chOff x="2194920" y="3864600"/>
                    <a:chExt cx="239400" cy="34560"/>
                  </a:xfrm>
                </p:grpSpPr>
                <p:sp>
                  <p:nvSpPr>
                    <p:cNvPr id="267" name=""/>
                    <p:cNvSpPr/>
                    <p:nvPr/>
                  </p:nvSpPr>
                  <p:spPr>
                    <a:xfrm>
                      <a:off x="2194920" y="38646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8" name=""/>
                    <p:cNvSpPr/>
                    <p:nvPr/>
                  </p:nvSpPr>
                  <p:spPr>
                    <a:xfrm>
                      <a:off x="2246040" y="386460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9" name=""/>
                    <p:cNvSpPr/>
                    <p:nvPr/>
                  </p:nvSpPr>
                  <p:spPr>
                    <a:xfrm>
                      <a:off x="2297520" y="38646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0" name=""/>
                    <p:cNvSpPr/>
                    <p:nvPr/>
                  </p:nvSpPr>
                  <p:spPr>
                    <a:xfrm>
                      <a:off x="2349000" y="386460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 name=""/>
                    <p:cNvSpPr/>
                    <p:nvPr/>
                  </p:nvSpPr>
                  <p:spPr>
                    <a:xfrm>
                      <a:off x="2400480" y="38646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272" name=""/>
                  <p:cNvGrpSpPr/>
                  <p:nvPr/>
                </p:nvGrpSpPr>
                <p:grpSpPr>
                  <a:xfrm>
                    <a:off x="2194920" y="3916800"/>
                    <a:ext cx="239400" cy="34560"/>
                    <a:chOff x="2194920" y="3916800"/>
                    <a:chExt cx="239400" cy="34560"/>
                  </a:xfrm>
                </p:grpSpPr>
                <p:sp>
                  <p:nvSpPr>
                    <p:cNvPr id="273" name=""/>
                    <p:cNvSpPr/>
                    <p:nvPr/>
                  </p:nvSpPr>
                  <p:spPr>
                    <a:xfrm>
                      <a:off x="2194920" y="39168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
                    <p:cNvSpPr/>
                    <p:nvPr/>
                  </p:nvSpPr>
                  <p:spPr>
                    <a:xfrm>
                      <a:off x="2246040" y="391680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 name=""/>
                    <p:cNvSpPr/>
                    <p:nvPr/>
                  </p:nvSpPr>
                  <p:spPr>
                    <a:xfrm>
                      <a:off x="2297520" y="39168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2349000" y="391680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7" name=""/>
                    <p:cNvSpPr/>
                    <p:nvPr/>
                  </p:nvSpPr>
                  <p:spPr>
                    <a:xfrm>
                      <a:off x="2400480" y="39168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278" name=""/>
                  <p:cNvGrpSpPr/>
                  <p:nvPr/>
                </p:nvGrpSpPr>
                <p:grpSpPr>
                  <a:xfrm>
                    <a:off x="2194920" y="3988440"/>
                    <a:ext cx="239400" cy="34920"/>
                    <a:chOff x="2194920" y="3988440"/>
                    <a:chExt cx="239400" cy="34920"/>
                  </a:xfrm>
                </p:grpSpPr>
                <p:sp>
                  <p:nvSpPr>
                    <p:cNvPr id="279" name=""/>
                    <p:cNvSpPr/>
                    <p:nvPr/>
                  </p:nvSpPr>
                  <p:spPr>
                    <a:xfrm>
                      <a:off x="2194920" y="398844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 name=""/>
                    <p:cNvSpPr/>
                    <p:nvPr/>
                  </p:nvSpPr>
                  <p:spPr>
                    <a:xfrm>
                      <a:off x="2246040" y="398844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1" name=""/>
                    <p:cNvSpPr/>
                    <p:nvPr/>
                  </p:nvSpPr>
                  <p:spPr>
                    <a:xfrm>
                      <a:off x="2297520" y="398844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2" name=""/>
                    <p:cNvSpPr/>
                    <p:nvPr/>
                  </p:nvSpPr>
                  <p:spPr>
                    <a:xfrm>
                      <a:off x="2349000" y="398844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3" name=""/>
                    <p:cNvSpPr/>
                    <p:nvPr/>
                  </p:nvSpPr>
                  <p:spPr>
                    <a:xfrm>
                      <a:off x="2400480" y="398844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84" name=""/>
                  <p:cNvGrpSpPr/>
                  <p:nvPr/>
                </p:nvGrpSpPr>
                <p:grpSpPr>
                  <a:xfrm>
                    <a:off x="2194920" y="4057560"/>
                    <a:ext cx="239400" cy="18360"/>
                    <a:chOff x="2194920" y="4057560"/>
                    <a:chExt cx="239400" cy="18360"/>
                  </a:xfrm>
                </p:grpSpPr>
                <p:sp>
                  <p:nvSpPr>
                    <p:cNvPr id="285" name=""/>
                    <p:cNvSpPr/>
                    <p:nvPr/>
                  </p:nvSpPr>
                  <p:spPr>
                    <a:xfrm flipV="1">
                      <a:off x="2194920" y="4057200"/>
                      <a:ext cx="3384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6" name=""/>
                    <p:cNvSpPr/>
                    <p:nvPr/>
                  </p:nvSpPr>
                  <p:spPr>
                    <a:xfrm flipV="1">
                      <a:off x="2246040" y="4057200"/>
                      <a:ext cx="3420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7" name=""/>
                    <p:cNvSpPr/>
                    <p:nvPr/>
                  </p:nvSpPr>
                  <p:spPr>
                    <a:xfrm flipV="1">
                      <a:off x="2297520" y="4057200"/>
                      <a:ext cx="3384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flipV="1">
                      <a:off x="2349000" y="4057200"/>
                      <a:ext cx="3420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9" name=""/>
                    <p:cNvSpPr/>
                    <p:nvPr/>
                  </p:nvSpPr>
                  <p:spPr>
                    <a:xfrm flipV="1">
                      <a:off x="2400480" y="4057200"/>
                      <a:ext cx="3384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290" name=""/>
                  <p:cNvGrpSpPr/>
                  <p:nvPr/>
                </p:nvGrpSpPr>
                <p:grpSpPr>
                  <a:xfrm>
                    <a:off x="2194920" y="4105800"/>
                    <a:ext cx="239400" cy="34560"/>
                    <a:chOff x="2194920" y="4105800"/>
                    <a:chExt cx="239400" cy="34560"/>
                  </a:xfrm>
                </p:grpSpPr>
                <p:sp>
                  <p:nvSpPr>
                    <p:cNvPr id="291" name=""/>
                    <p:cNvSpPr/>
                    <p:nvPr/>
                  </p:nvSpPr>
                  <p:spPr>
                    <a:xfrm>
                      <a:off x="2194920" y="41058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 name=""/>
                    <p:cNvSpPr/>
                    <p:nvPr/>
                  </p:nvSpPr>
                  <p:spPr>
                    <a:xfrm>
                      <a:off x="2246040" y="410580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3" name=""/>
                    <p:cNvSpPr/>
                    <p:nvPr/>
                  </p:nvSpPr>
                  <p:spPr>
                    <a:xfrm>
                      <a:off x="2297520" y="41058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4" name=""/>
                    <p:cNvSpPr/>
                    <p:nvPr/>
                  </p:nvSpPr>
                  <p:spPr>
                    <a:xfrm>
                      <a:off x="2349000" y="410580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5" name=""/>
                    <p:cNvSpPr/>
                    <p:nvPr/>
                  </p:nvSpPr>
                  <p:spPr>
                    <a:xfrm>
                      <a:off x="2400480" y="410580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296" name=""/>
                  <p:cNvGrpSpPr/>
                  <p:nvPr/>
                </p:nvGrpSpPr>
                <p:grpSpPr>
                  <a:xfrm>
                    <a:off x="2194920" y="4175640"/>
                    <a:ext cx="239400" cy="34920"/>
                    <a:chOff x="2194920" y="4175640"/>
                    <a:chExt cx="239400" cy="34920"/>
                  </a:xfrm>
                </p:grpSpPr>
                <p:sp>
                  <p:nvSpPr>
                    <p:cNvPr id="297" name=""/>
                    <p:cNvSpPr/>
                    <p:nvPr/>
                  </p:nvSpPr>
                  <p:spPr>
                    <a:xfrm>
                      <a:off x="2194920" y="417564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8" name=""/>
                    <p:cNvSpPr/>
                    <p:nvPr/>
                  </p:nvSpPr>
                  <p:spPr>
                    <a:xfrm>
                      <a:off x="2246040" y="417564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2297520" y="417564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 name=""/>
                    <p:cNvSpPr/>
                    <p:nvPr/>
                  </p:nvSpPr>
                  <p:spPr>
                    <a:xfrm>
                      <a:off x="2349000" y="417564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2400480" y="417564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grpSp>
            <p:nvGrpSpPr>
              <p:cNvPr id="302" name=""/>
              <p:cNvGrpSpPr/>
              <p:nvPr/>
            </p:nvGrpSpPr>
            <p:grpSpPr>
              <a:xfrm>
                <a:off x="4549680" y="3720240"/>
                <a:ext cx="325080" cy="505800"/>
                <a:chOff x="4549680" y="3720240"/>
                <a:chExt cx="325080" cy="505800"/>
              </a:xfrm>
            </p:grpSpPr>
            <p:sp>
              <p:nvSpPr>
                <p:cNvPr id="303" name=""/>
                <p:cNvSpPr/>
                <p:nvPr/>
              </p:nvSpPr>
              <p:spPr>
                <a:xfrm>
                  <a:off x="4549680" y="3720240"/>
                  <a:ext cx="325080" cy="50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4583880" y="3775680"/>
                  <a:ext cx="239040" cy="398160"/>
                  <a:chOff x="4583880" y="3775680"/>
                  <a:chExt cx="239040" cy="398160"/>
                </a:xfrm>
              </p:grpSpPr>
              <p:grpSp>
                <p:nvGrpSpPr>
                  <p:cNvPr id="305" name=""/>
                  <p:cNvGrpSpPr/>
                  <p:nvPr/>
                </p:nvGrpSpPr>
                <p:grpSpPr>
                  <a:xfrm>
                    <a:off x="4583880" y="3775680"/>
                    <a:ext cx="239040" cy="35280"/>
                    <a:chOff x="4583880" y="3775680"/>
                    <a:chExt cx="239040" cy="35280"/>
                  </a:xfrm>
                </p:grpSpPr>
                <p:sp>
                  <p:nvSpPr>
                    <p:cNvPr id="306" name=""/>
                    <p:cNvSpPr/>
                    <p:nvPr/>
                  </p:nvSpPr>
                  <p:spPr>
                    <a:xfrm>
                      <a:off x="4583880" y="3775680"/>
                      <a:ext cx="3384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7" name=""/>
                    <p:cNvSpPr/>
                    <p:nvPr/>
                  </p:nvSpPr>
                  <p:spPr>
                    <a:xfrm>
                      <a:off x="4634640" y="3775680"/>
                      <a:ext cx="3420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8" name=""/>
                    <p:cNvSpPr/>
                    <p:nvPr/>
                  </p:nvSpPr>
                  <p:spPr>
                    <a:xfrm>
                      <a:off x="4686480" y="3775680"/>
                      <a:ext cx="3384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9" name=""/>
                    <p:cNvSpPr/>
                    <p:nvPr/>
                  </p:nvSpPr>
                  <p:spPr>
                    <a:xfrm>
                      <a:off x="4737240" y="3775680"/>
                      <a:ext cx="3420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4789080" y="3775680"/>
                      <a:ext cx="33840" cy="35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311" name=""/>
                  <p:cNvGrpSpPr/>
                  <p:nvPr/>
                </p:nvGrpSpPr>
                <p:grpSpPr>
                  <a:xfrm>
                    <a:off x="4583880" y="3827880"/>
                    <a:ext cx="239040" cy="34560"/>
                    <a:chOff x="4583880" y="3827880"/>
                    <a:chExt cx="239040" cy="34560"/>
                  </a:xfrm>
                </p:grpSpPr>
                <p:sp>
                  <p:nvSpPr>
                    <p:cNvPr id="312" name=""/>
                    <p:cNvSpPr/>
                    <p:nvPr/>
                  </p:nvSpPr>
                  <p:spPr>
                    <a:xfrm>
                      <a:off x="4583880" y="38278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3" name=""/>
                    <p:cNvSpPr/>
                    <p:nvPr/>
                  </p:nvSpPr>
                  <p:spPr>
                    <a:xfrm>
                      <a:off x="4634640" y="382788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4" name=""/>
                    <p:cNvSpPr/>
                    <p:nvPr/>
                  </p:nvSpPr>
                  <p:spPr>
                    <a:xfrm>
                      <a:off x="4686480" y="38278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
                    <p:cNvSpPr/>
                    <p:nvPr/>
                  </p:nvSpPr>
                  <p:spPr>
                    <a:xfrm>
                      <a:off x="4737240" y="382788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6" name=""/>
                    <p:cNvSpPr/>
                    <p:nvPr/>
                  </p:nvSpPr>
                  <p:spPr>
                    <a:xfrm>
                      <a:off x="4789080" y="38278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317" name=""/>
                  <p:cNvGrpSpPr/>
                  <p:nvPr/>
                </p:nvGrpSpPr>
                <p:grpSpPr>
                  <a:xfrm>
                    <a:off x="4583880" y="3880080"/>
                    <a:ext cx="239040" cy="34560"/>
                    <a:chOff x="4583880" y="3880080"/>
                    <a:chExt cx="239040" cy="34560"/>
                  </a:xfrm>
                </p:grpSpPr>
                <p:sp>
                  <p:nvSpPr>
                    <p:cNvPr id="318" name=""/>
                    <p:cNvSpPr/>
                    <p:nvPr/>
                  </p:nvSpPr>
                  <p:spPr>
                    <a:xfrm>
                      <a:off x="4583880" y="38800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
                    <p:cNvSpPr/>
                    <p:nvPr/>
                  </p:nvSpPr>
                  <p:spPr>
                    <a:xfrm>
                      <a:off x="4634640" y="388008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0" name=""/>
                    <p:cNvSpPr/>
                    <p:nvPr/>
                  </p:nvSpPr>
                  <p:spPr>
                    <a:xfrm>
                      <a:off x="4686480" y="38800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1" name=""/>
                    <p:cNvSpPr/>
                    <p:nvPr/>
                  </p:nvSpPr>
                  <p:spPr>
                    <a:xfrm>
                      <a:off x="4737240" y="388008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2" name=""/>
                    <p:cNvSpPr/>
                    <p:nvPr/>
                  </p:nvSpPr>
                  <p:spPr>
                    <a:xfrm>
                      <a:off x="4789080" y="38800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323" name=""/>
                  <p:cNvGrpSpPr/>
                  <p:nvPr/>
                </p:nvGrpSpPr>
                <p:grpSpPr>
                  <a:xfrm>
                    <a:off x="4583880" y="3951720"/>
                    <a:ext cx="239040" cy="34920"/>
                    <a:chOff x="4583880" y="3951720"/>
                    <a:chExt cx="239040" cy="34920"/>
                  </a:xfrm>
                </p:grpSpPr>
                <p:sp>
                  <p:nvSpPr>
                    <p:cNvPr id="324" name=""/>
                    <p:cNvSpPr/>
                    <p:nvPr/>
                  </p:nvSpPr>
                  <p:spPr>
                    <a:xfrm>
                      <a:off x="4583880" y="395172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 name=""/>
                    <p:cNvSpPr/>
                    <p:nvPr/>
                  </p:nvSpPr>
                  <p:spPr>
                    <a:xfrm>
                      <a:off x="4634640" y="395172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4686480" y="395172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7" name=""/>
                    <p:cNvSpPr/>
                    <p:nvPr/>
                  </p:nvSpPr>
                  <p:spPr>
                    <a:xfrm>
                      <a:off x="4737240" y="395172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8" name=""/>
                    <p:cNvSpPr/>
                    <p:nvPr/>
                  </p:nvSpPr>
                  <p:spPr>
                    <a:xfrm>
                      <a:off x="4789080" y="395172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329" name=""/>
                  <p:cNvGrpSpPr/>
                  <p:nvPr/>
                </p:nvGrpSpPr>
                <p:grpSpPr>
                  <a:xfrm>
                    <a:off x="4583880" y="4020840"/>
                    <a:ext cx="239040" cy="18360"/>
                    <a:chOff x="4583880" y="4020840"/>
                    <a:chExt cx="239040" cy="18360"/>
                  </a:xfrm>
                </p:grpSpPr>
                <p:sp>
                  <p:nvSpPr>
                    <p:cNvPr id="330" name=""/>
                    <p:cNvSpPr/>
                    <p:nvPr/>
                  </p:nvSpPr>
                  <p:spPr>
                    <a:xfrm flipV="1">
                      <a:off x="4583880" y="4020480"/>
                      <a:ext cx="3384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flipV="1">
                      <a:off x="4634640" y="4020480"/>
                      <a:ext cx="3420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2" name=""/>
                    <p:cNvSpPr/>
                    <p:nvPr/>
                  </p:nvSpPr>
                  <p:spPr>
                    <a:xfrm flipV="1">
                      <a:off x="4686480" y="4020480"/>
                      <a:ext cx="3384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3" name=""/>
                    <p:cNvSpPr/>
                    <p:nvPr/>
                  </p:nvSpPr>
                  <p:spPr>
                    <a:xfrm flipV="1">
                      <a:off x="4737240" y="4020480"/>
                      <a:ext cx="3420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4" name=""/>
                    <p:cNvSpPr/>
                    <p:nvPr/>
                  </p:nvSpPr>
                  <p:spPr>
                    <a:xfrm flipV="1">
                      <a:off x="4789080" y="4020480"/>
                      <a:ext cx="33840" cy="183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335" name=""/>
                  <p:cNvGrpSpPr/>
                  <p:nvPr/>
                </p:nvGrpSpPr>
                <p:grpSpPr>
                  <a:xfrm>
                    <a:off x="4583880" y="4069080"/>
                    <a:ext cx="239040" cy="34560"/>
                    <a:chOff x="4583880" y="4069080"/>
                    <a:chExt cx="239040" cy="34560"/>
                  </a:xfrm>
                </p:grpSpPr>
                <p:sp>
                  <p:nvSpPr>
                    <p:cNvPr id="336" name=""/>
                    <p:cNvSpPr/>
                    <p:nvPr/>
                  </p:nvSpPr>
                  <p:spPr>
                    <a:xfrm>
                      <a:off x="4583880" y="40690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7" name=""/>
                    <p:cNvSpPr/>
                    <p:nvPr/>
                  </p:nvSpPr>
                  <p:spPr>
                    <a:xfrm>
                      <a:off x="4634640" y="406908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8" name=""/>
                    <p:cNvSpPr/>
                    <p:nvPr/>
                  </p:nvSpPr>
                  <p:spPr>
                    <a:xfrm>
                      <a:off x="4686480" y="40690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9" name=""/>
                    <p:cNvSpPr/>
                    <p:nvPr/>
                  </p:nvSpPr>
                  <p:spPr>
                    <a:xfrm>
                      <a:off x="4737240" y="4069080"/>
                      <a:ext cx="3420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0" name=""/>
                    <p:cNvSpPr/>
                    <p:nvPr/>
                  </p:nvSpPr>
                  <p:spPr>
                    <a:xfrm>
                      <a:off x="4789080" y="4069080"/>
                      <a:ext cx="33840" cy="345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341" name=""/>
                  <p:cNvGrpSpPr/>
                  <p:nvPr/>
                </p:nvGrpSpPr>
                <p:grpSpPr>
                  <a:xfrm>
                    <a:off x="4583880" y="4138920"/>
                    <a:ext cx="239040" cy="34920"/>
                    <a:chOff x="4583880" y="4138920"/>
                    <a:chExt cx="239040" cy="34920"/>
                  </a:xfrm>
                </p:grpSpPr>
                <p:sp>
                  <p:nvSpPr>
                    <p:cNvPr id="342" name=""/>
                    <p:cNvSpPr/>
                    <p:nvPr/>
                  </p:nvSpPr>
                  <p:spPr>
                    <a:xfrm>
                      <a:off x="4583880" y="413892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3" name=""/>
                    <p:cNvSpPr/>
                    <p:nvPr/>
                  </p:nvSpPr>
                  <p:spPr>
                    <a:xfrm>
                      <a:off x="4634640" y="413892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4" name=""/>
                    <p:cNvSpPr/>
                    <p:nvPr/>
                  </p:nvSpPr>
                  <p:spPr>
                    <a:xfrm>
                      <a:off x="4686480" y="413892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 name=""/>
                    <p:cNvSpPr/>
                    <p:nvPr/>
                  </p:nvSpPr>
                  <p:spPr>
                    <a:xfrm>
                      <a:off x="4737240" y="4138920"/>
                      <a:ext cx="3420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4789080" y="4138920"/>
                      <a:ext cx="33840" cy="34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sp>
            <p:nvSpPr>
              <p:cNvPr id="347" name=""/>
              <p:cNvSpPr/>
              <p:nvPr/>
            </p:nvSpPr>
            <p:spPr>
              <a:xfrm>
                <a:off x="3499920" y="3213360"/>
                <a:ext cx="0" cy="50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499920" y="4263120"/>
                <a:ext cx="720" cy="50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522520" y="3756960"/>
                <a:ext cx="1989720" cy="469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223520" y="3141000"/>
                <a:ext cx="1049400" cy="326880"/>
              </a:xfrm>
              <a:prstGeom prst="wedgeRoundRectCallout">
                <a:avLst>
                  <a:gd name="adj1" fmla="val -68268"/>
                  <a:gd name="adj2" fmla="val 175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lektrikum</a:t>
                </a:r>
                <a:endParaRPr b="0" lang="en-US" sz="1200" spc="-1" strike="noStrike">
                  <a:solidFill>
                    <a:srgbClr val="000000"/>
                  </a:solidFill>
                  <a:latin typeface="Arial"/>
                </a:endParaRPr>
              </a:p>
            </p:txBody>
          </p:sp>
          <p:sp>
            <p:nvSpPr>
              <p:cNvPr id="351" name=""/>
              <p:cNvSpPr/>
              <p:nvPr/>
            </p:nvSpPr>
            <p:spPr>
              <a:xfrm rot="5085600">
                <a:off x="5453640" y="3430800"/>
                <a:ext cx="579240" cy="1013040"/>
              </a:xfrm>
              <a:prstGeom prst="wedgeRoundRectCallout">
                <a:avLst>
                  <a:gd name="adj1" fmla="val -3800"/>
                  <a:gd name="adj2" fmla="val 10632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nutí</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Úvo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Je známo, že vyvrcholením vysokoškolského kurzu elektřiny a magnetismu bývá sestavení Maxwellových rovnic a jejich užití pro výklad obecných vlastností elektromagnetického pole.</a:t>
            </a: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Jejich vyvození se opírá o řadu experimentálně ověřitelných zákonitostí, s nimiž se studenti  seznamují v průběhu celého kurzu. Většinou však ani tyto zákonitosti nebývají opřeny o reálný demonstrační pokus, snad s výjimkou kvalitativního ověření Faradayova zákona elektromagnetické indukce. </a:t>
            </a: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Vzniká proto otázka, zda fyzikální obsah Maxwellových rovnic je ověřitelný soustavou přesvědčivých demonstračních experimentů . Je zřejmé, že toto ověřování se týká integrální formy těchto rovnic, které obvykle zapisujeme ve tva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Zapojení pro demonstraci magnetických účinků posuvného proudu</a:t>
            </a:r>
            <a:endParaRPr b="0" lang="en-US" sz="1800" spc="-1" strike="noStrike">
              <a:solidFill>
                <a:srgbClr val="000000"/>
              </a:solidFill>
              <a:latin typeface="Arial"/>
            </a:endParaRPr>
          </a:p>
        </p:txBody>
      </p:sp>
      <p:sp>
        <p:nvSpPr>
          <p:cNvPr id="353"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
          <p:cNvSpPr/>
          <p:nvPr/>
        </p:nvSpPr>
        <p:spPr>
          <a:xfrm>
            <a:off x="1692360" y="3249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692360" y="31050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1943280" y="274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943280" y="32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943280" y="2744640"/>
            <a:ext cx="10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943280" y="3500280"/>
            <a:ext cx="10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826920" y="317664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1042920" y="3213000"/>
            <a:ext cx="5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908000" y="4689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 name=""/>
          <p:cNvGrpSpPr/>
          <p:nvPr/>
        </p:nvGrpSpPr>
        <p:grpSpPr>
          <a:xfrm>
            <a:off x="826920" y="2600280"/>
            <a:ext cx="5977080" cy="3781440"/>
            <a:chOff x="826920" y="2600280"/>
            <a:chExt cx="5977080" cy="3781440"/>
          </a:xfrm>
        </p:grpSpPr>
        <p:sp>
          <p:nvSpPr>
            <p:cNvPr id="364" name=""/>
            <p:cNvSpPr/>
            <p:nvPr/>
          </p:nvSpPr>
          <p:spPr>
            <a:xfrm>
              <a:off x="1727280" y="3141720"/>
              <a:ext cx="396720" cy="71280"/>
            </a:xfrm>
            <a:prstGeom prst="rect">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65" name=""/>
            <p:cNvSpPr/>
            <p:nvPr/>
          </p:nvSpPr>
          <p:spPr>
            <a:xfrm>
              <a:off x="2987640" y="2600280"/>
              <a:ext cx="176364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564000" y="2889360"/>
              <a:ext cx="468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3600360" y="3176280"/>
              <a:ext cx="432000" cy="25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111640" y="2600280"/>
              <a:ext cx="169236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219640" y="296064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ónový gen.</a:t>
              </a:r>
              <a:endParaRPr b="0" lang="en-US" sz="1800" spc="-1" strike="noStrike">
                <a:solidFill>
                  <a:srgbClr val="000000"/>
                </a:solidFill>
                <a:latin typeface="Arial"/>
              </a:endParaRPr>
            </a:p>
          </p:txBody>
        </p:sp>
        <p:sp>
          <p:nvSpPr>
            <p:cNvPr id="370" name=""/>
            <p:cNvSpPr/>
            <p:nvPr/>
          </p:nvSpPr>
          <p:spPr>
            <a:xfrm>
              <a:off x="4751280" y="28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751280" y="3357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584360" y="3141720"/>
              <a:ext cx="71280" cy="108000"/>
            </a:xfrm>
            <a:prstGeom prst="rect">
              <a:avLst/>
            </a:prstGeom>
            <a:solidFill>
              <a:srgbClr val="f62d1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158920" y="3141720"/>
              <a:ext cx="71640" cy="108000"/>
            </a:xfrm>
            <a:prstGeom prst="rect">
              <a:avLst/>
            </a:prstGeom>
            <a:solidFill>
              <a:srgbClr val="f62d1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826920" y="317664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42920" y="3213000"/>
              <a:ext cx="0" cy="14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547640" y="5084640"/>
              <a:ext cx="720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826920" y="638172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908000" y="5805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042920" y="468936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27280" y="5300640"/>
              <a:ext cx="39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503280" y="189000"/>
            <a:ext cx="8229600" cy="648000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Deskový kondenzátor s plochou desek asi 100 cm2 má parafinové dielektrikum asi 1 cm tlusté. Na obvodu je opatřen vinutím. Prochází-li kondenzátorem střídavý proud (nejlépe s frekvencí větší než 10 kHz ) , vytváří se kolem kondenzátoru proměnné magnetické pole, které indukuje napětí ve vinutí. Toto napětí je měřitelné nízkofrekvenčním milivoltmetrem. Dá se ukázat, že toto napětí je úměrné proudu procházejícím kondenzátorem.</a:t>
            </a: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Popsané pokusy potvrzují kvalitativně a s přiměřenou mírou přesnosti  i kvantitativně, že Maxwellova rovnice (1a) je v souladu se skutečností. Demonstrace nejsou náročné na provedení a lze je provést na semináři ke kursu elektřiny a magnetism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věření rovnice 1b</a:t>
            </a:r>
            <a:endParaRPr b="0" lang="en-US" sz="2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1800" spc="-1" strike="noStrike">
                <a:solidFill>
                  <a:srgbClr val="333399"/>
                </a:solidFill>
                <a:latin typeface="Arial"/>
              </a:rPr>
              <a:t>Rovnice (1b) představuje Faradayův zákon elektromagnetické indukce. Tento důležitý zákon elektromagnetismu se již na základních školách demonstruje tak, že se cívka ze školního rozkladného transformátoru připojí k demonstračnímu milivoltmetru a potom se do cívky zasunuje a z cívky  vysunuje tyčový magnet. Ukazuje se, že velikost napětí závisí na rychlosti, se kterou se magnet vzhledem k cívce pohybuje a také na směru jeho pohybu. Takový pokus je ovšem jen předvedením existence jevu. Nelze při něm provést kvantitativní vyhodnocení a také z hlediska speciální teorie relativity je v podstatě chybný, neboť platnost zákona (1a) by měla být ověřována v pevně vybrané inerciální soustavě, kde nenastává pohyb jedné části aparatury vzhledem k druh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457200" y="297000"/>
            <a:ext cx="8229600" cy="582912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znik elektrického pole při pohybu magnetu je vlastně relativistickým jevem . Námitka, že jde o pomalé pohyby není správná, neboť v relativistické elektrodynamice nastává vzájemná souvislost magnetického a elektrického pole i při zcela pomalých pohybech.   Jestliže chceme ověřit zákon (1b), je nutno provést to s aparaturou, jejíž části se vzhledem k sobě nepohybují a uspořádání musí umožnit kvantitativní vyhodnocení pokusu. Jednou z možností je užití aparatury na ob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86" name=""/>
          <p:cNvGrpSpPr/>
          <p:nvPr/>
        </p:nvGrpSpPr>
        <p:grpSpPr>
          <a:xfrm>
            <a:off x="2091240" y="1701000"/>
            <a:ext cx="4342680" cy="2284920"/>
            <a:chOff x="2091240" y="1701000"/>
            <a:chExt cx="4342680" cy="2284920"/>
          </a:xfrm>
        </p:grpSpPr>
        <p:sp>
          <p:nvSpPr>
            <p:cNvPr id="387" name=""/>
            <p:cNvSpPr/>
            <p:nvPr/>
          </p:nvSpPr>
          <p:spPr>
            <a:xfrm flipV="1">
              <a:off x="3213000" y="19180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3611520" y="1918080"/>
              <a:ext cx="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995920" y="1918080"/>
              <a:ext cx="2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78840" y="1701000"/>
              <a:ext cx="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878000" y="3330000"/>
              <a:ext cx="145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392" name=""/>
            <p:cNvGrpSpPr/>
            <p:nvPr/>
          </p:nvGrpSpPr>
          <p:grpSpPr>
            <a:xfrm>
              <a:off x="2091240" y="1701000"/>
              <a:ext cx="4342680" cy="2284920"/>
              <a:chOff x="2091240" y="1701000"/>
              <a:chExt cx="4342680" cy="2284920"/>
            </a:xfrm>
          </p:grpSpPr>
          <p:grpSp>
            <p:nvGrpSpPr>
              <p:cNvPr id="393" name=""/>
              <p:cNvGrpSpPr/>
              <p:nvPr/>
            </p:nvGrpSpPr>
            <p:grpSpPr>
              <a:xfrm>
                <a:off x="2236320" y="2027520"/>
                <a:ext cx="687240" cy="542520"/>
                <a:chOff x="2236320" y="2027520"/>
                <a:chExt cx="687240" cy="542520"/>
              </a:xfrm>
            </p:grpSpPr>
            <p:sp>
              <p:nvSpPr>
                <p:cNvPr id="394" name=""/>
                <p:cNvSpPr/>
                <p:nvPr/>
              </p:nvSpPr>
              <p:spPr>
                <a:xfrm>
                  <a:off x="2236320" y="2136600"/>
                  <a:ext cx="687240" cy="433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10800000">
                  <a:off x="2344320" y="2027520"/>
                  <a:ext cx="72000" cy="109800"/>
                </a:xfrm>
                <a:prstGeom prst="flowChartManualOperat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10800000">
                  <a:off x="2742120" y="2027520"/>
                  <a:ext cx="71640" cy="109800"/>
                </a:xfrm>
                <a:prstGeom prst="flowChartManualOperat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3068640" y="2026080"/>
                <a:ext cx="687240" cy="541800"/>
                <a:chOff x="3068640" y="2026080"/>
                <a:chExt cx="687240" cy="541800"/>
              </a:xfrm>
            </p:grpSpPr>
            <p:sp>
              <p:nvSpPr>
                <p:cNvPr id="398" name=""/>
                <p:cNvSpPr/>
                <p:nvPr/>
              </p:nvSpPr>
              <p:spPr>
                <a:xfrm>
                  <a:off x="3068640" y="2134800"/>
                  <a:ext cx="687240" cy="433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rot="10800000">
                  <a:off x="3176640" y="2026080"/>
                  <a:ext cx="72000" cy="109440"/>
                </a:xfrm>
                <a:prstGeom prst="flowChartManualOperat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rot="10800000">
                  <a:off x="3574440" y="2026080"/>
                  <a:ext cx="71640" cy="109440"/>
                </a:xfrm>
                <a:prstGeom prst="flowChartManualOperat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3901320" y="2031480"/>
                <a:ext cx="686520" cy="542520"/>
                <a:chOff x="3901320" y="2031480"/>
                <a:chExt cx="686520" cy="542520"/>
              </a:xfrm>
            </p:grpSpPr>
            <p:sp>
              <p:nvSpPr>
                <p:cNvPr id="402" name=""/>
                <p:cNvSpPr/>
                <p:nvPr/>
              </p:nvSpPr>
              <p:spPr>
                <a:xfrm>
                  <a:off x="3901320" y="2140560"/>
                  <a:ext cx="686520" cy="433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10800000">
                  <a:off x="4009320" y="2031480"/>
                  <a:ext cx="72000" cy="109800"/>
                </a:xfrm>
                <a:prstGeom prst="flowChartManualOperat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rot="10800000">
                  <a:off x="4406760" y="2031480"/>
                  <a:ext cx="71640" cy="109800"/>
                </a:xfrm>
                <a:prstGeom prst="flowChartManualOperat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5023080" y="3226320"/>
                <a:ext cx="1410840" cy="75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131080" y="3371400"/>
                <a:ext cx="1194480" cy="5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ynule regulovatelné U</a:t>
                </a:r>
                <a:endParaRPr b="0" lang="en-US" sz="1200" spc="-1" strike="noStrike">
                  <a:solidFill>
                    <a:srgbClr val="000000"/>
                  </a:solidFill>
                  <a:latin typeface="Arial"/>
                </a:endParaRPr>
              </a:p>
            </p:txBody>
          </p:sp>
          <p:sp>
            <p:nvSpPr>
              <p:cNvPr id="407" name=""/>
              <p:cNvSpPr/>
              <p:nvPr/>
            </p:nvSpPr>
            <p:spPr>
              <a:xfrm>
                <a:off x="3611160" y="1918080"/>
                <a:ext cx="217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8" name=""/>
              <p:cNvSpPr/>
              <p:nvPr/>
            </p:nvSpPr>
            <p:spPr>
              <a:xfrm>
                <a:off x="3828240" y="1918080"/>
                <a:ext cx="720" cy="133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995920" y="1919520"/>
                <a:ext cx="720" cy="133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213000" y="3039480"/>
                <a:ext cx="361800" cy="36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95920" y="3257280"/>
                <a:ext cx="217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2" name=""/>
              <p:cNvSpPr/>
              <p:nvPr/>
            </p:nvSpPr>
            <p:spPr>
              <a:xfrm>
                <a:off x="3575160" y="3220560"/>
                <a:ext cx="253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3" name=""/>
              <p:cNvSpPr/>
              <p:nvPr/>
            </p:nvSpPr>
            <p:spPr>
              <a:xfrm>
                <a:off x="3285720" y="3111840"/>
                <a:ext cx="217080" cy="21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sp>
            <p:nvSpPr>
              <p:cNvPr id="414" name=""/>
              <p:cNvSpPr/>
              <p:nvPr/>
            </p:nvSpPr>
            <p:spPr>
              <a:xfrm>
                <a:off x="2380320" y="1702440"/>
                <a:ext cx="72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45320" y="1701000"/>
                <a:ext cx="72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443480" y="1706400"/>
                <a:ext cx="144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78480" y="1701000"/>
                <a:ext cx="1266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8" name=""/>
              <p:cNvSpPr/>
              <p:nvPr/>
            </p:nvSpPr>
            <p:spPr>
              <a:xfrm flipV="1">
                <a:off x="2091240" y="3841560"/>
                <a:ext cx="2931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9" name=""/>
              <p:cNvSpPr/>
              <p:nvPr/>
            </p:nvSpPr>
            <p:spPr>
              <a:xfrm>
                <a:off x="2091240" y="1702440"/>
                <a:ext cx="720" cy="21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091240" y="1702440"/>
                <a:ext cx="289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1" name=""/>
              <p:cNvSpPr/>
              <p:nvPr/>
            </p:nvSpPr>
            <p:spPr>
              <a:xfrm>
                <a:off x="4443480" y="1706400"/>
                <a:ext cx="4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878000" y="170640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308320" y="2679840"/>
                <a:ext cx="61524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 z</a:t>
                </a:r>
                <a:endParaRPr b="0" lang="en-US" sz="1200" spc="-1" strike="noStrike">
                  <a:solidFill>
                    <a:srgbClr val="000000"/>
                  </a:solidFill>
                  <a:latin typeface="Arial"/>
                </a:endParaRPr>
              </a:p>
            </p:txBody>
          </p:sp>
        </p:grpSp>
        <p:sp>
          <p:nvSpPr>
            <p:cNvPr id="424" name=""/>
            <p:cNvSpPr/>
            <p:nvPr/>
          </p:nvSpPr>
          <p:spPr>
            <a:xfrm>
              <a:off x="3937320" y="2678400"/>
              <a:ext cx="61524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 z</a:t>
              </a:r>
              <a:endParaRPr b="0" lang="en-US" sz="1200" spc="-1" strike="noStrike">
                <a:solidFill>
                  <a:srgbClr val="000000"/>
                </a:solidFill>
                <a:latin typeface="Arial"/>
              </a:endParaRPr>
            </a:p>
          </p:txBody>
        </p:sp>
        <p:sp>
          <p:nvSpPr>
            <p:cNvPr id="425" name=""/>
            <p:cNvSpPr/>
            <p:nvPr/>
          </p:nvSpPr>
          <p:spPr>
            <a:xfrm>
              <a:off x="3105000" y="2678400"/>
              <a:ext cx="651240" cy="28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z</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Ze zdroje s lineárně proměnným napětím jsou napájeny dvě do série zapojené cívky. Proud jimi protéká v souhlasném směru. Magnetický tok prochází prostřední cívkou, která má 12000 závitů. Jestliže magnetický tok vytvářený krajními cívkami se mění lineárně s časem podle vztah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Kde     je změna magnetického toku za jednotku času. Regulovatelný zdroj byl nastaven tak, aby nárůst magnetického toku z nulové hodnoty na maximální mohl nastat za dvě sekundy, za čtyři sekundy až osm sekund. Bylo měřeno napětí indukované v prostřední cívce. Výsledky měření jsou v tabulce.</a:t>
            </a:r>
            <a:endParaRPr b="0" lang="en-US" sz="1800" spc="-1" strike="noStrike">
              <a:solidFill>
                <a:srgbClr val="000000"/>
              </a:solidFill>
              <a:latin typeface="Arial"/>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8" name=""/>
          <p:cNvGraphicFramePr/>
          <p:nvPr/>
        </p:nvGraphicFramePr>
        <p:xfrm>
          <a:off x="2771640" y="2050920"/>
          <a:ext cx="1543320" cy="555840"/>
        </p:xfrm>
        <a:graphic>
          <a:graphicData uri="http://schemas.openxmlformats.org/presentationml/2006/ole">
            <p:oleObj r:id="rId1" spid="">
              <p:embed/>
              <p:pic>
                <p:nvPicPr>
                  <p:cNvPr id="429" name="" descr=""/>
                  <p:cNvPicPr/>
                  <p:nvPr/>
                </p:nvPicPr>
                <p:blipFill>
                  <a:blip r:embed="rId2"/>
                  <a:stretch/>
                </p:blipFill>
                <p:spPr>
                  <a:xfrm>
                    <a:off x="2771640" y="2050920"/>
                    <a:ext cx="1543320" cy="555840"/>
                  </a:xfrm>
                  <a:prstGeom prst="rect">
                    <a:avLst/>
                  </a:prstGeom>
                  <a:ln w="0">
                    <a:noFill/>
                  </a:ln>
                </p:spPr>
              </p:pic>
            </p:oleObj>
          </a:graphicData>
        </a:graphic>
      </p:graphicFrame>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1" name=""/>
          <p:cNvGraphicFramePr/>
          <p:nvPr/>
        </p:nvGraphicFramePr>
        <p:xfrm>
          <a:off x="1341360" y="2997360"/>
          <a:ext cx="293760" cy="336240"/>
        </p:xfrm>
        <a:graphic>
          <a:graphicData uri="http://schemas.openxmlformats.org/presentationml/2006/ole">
            <p:oleObj r:id="rId3" spid="">
              <p:embed/>
              <p:pic>
                <p:nvPicPr>
                  <p:cNvPr id="432" name="" descr=""/>
                  <p:cNvPicPr/>
                  <p:nvPr/>
                </p:nvPicPr>
                <p:blipFill>
                  <a:blip r:embed="rId4"/>
                  <a:stretch/>
                </p:blipFill>
                <p:spPr>
                  <a:xfrm>
                    <a:off x="1341360" y="2997360"/>
                    <a:ext cx="293760" cy="33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abulka naměřených hodnot</a:t>
            </a:r>
            <a:endParaRPr b="0" lang="en-US" sz="2400" spc="-1" strike="noStrike">
              <a:solidFill>
                <a:srgbClr val="000000"/>
              </a:solidFill>
              <a:latin typeface="Arial"/>
            </a:endParaRPr>
          </a:p>
        </p:txBody>
      </p:sp>
      <p:sp>
        <p:nvSpPr>
          <p:cNvPr id="434" name=""/>
          <p:cNvSpPr/>
          <p:nvPr/>
        </p:nvSpPr>
        <p:spPr>
          <a:xfrm>
            <a:off x="0" y="7745400"/>
            <a:ext cx="9144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5" name=""/>
          <p:cNvSpPr/>
          <p:nvPr/>
        </p:nvSpPr>
        <p:spPr>
          <a:xfrm>
            <a:off x="0" y="7345440"/>
            <a:ext cx="914400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aphicFrame>
        <p:nvGraphicFramePr>
          <p:cNvPr id="436" name=""/>
          <p:cNvGraphicFramePr/>
          <p:nvPr/>
        </p:nvGraphicFramePr>
        <p:xfrm>
          <a:off x="457200" y="1600200"/>
          <a:ext cx="8229600" cy="4657680"/>
        </p:xfrm>
        <a:graphic>
          <a:graphicData uri="http://schemas.openxmlformats.org/drawingml/2006/table">
            <a:tbl>
              <a:tblPr/>
              <a:tblGrid>
                <a:gridCol w="2743200"/>
                <a:gridCol w="2743200"/>
                <a:gridCol w="274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í  / rel. j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 / m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38" name=""/>
          <p:cNvGraphicFramePr/>
          <p:nvPr/>
        </p:nvGraphicFramePr>
        <p:xfrm>
          <a:off x="457200" y="1600200"/>
          <a:ext cx="8229600" cy="4657680"/>
        </p:xfrm>
        <a:graphic>
          <a:graphicData uri="http://schemas.openxmlformats.org/drawingml/2006/table">
            <a:tbl>
              <a:tblPr/>
              <a:tblGrid>
                <a:gridCol w="2743200"/>
                <a:gridCol w="2743200"/>
                <a:gridCol w="274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í / rel.j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 / m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1332000" y="944640"/>
            <a:ext cx="6480000" cy="47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Magnetický tok v tabulce je udán v relativních jednotkách. Na grafu je patrný lineární nárůst magnetického toku a přibližně stálá hodnota indukovaného napětí. To je dobře vidět i z připojené směrnice trendu, která v tomto případě udává pro indukované napětí  hodnotu </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6,4 mV. Podobně bylo měření provedeno i pro rychlejší změny magnetického toku ( na maximální hodnotu magnetický tok narostl za 6, 4 , 2 sekundy). Výsledek celého měření je na grafu, který ukazuje závislost indukovaného napětí na rychlosti změny magnetického toku </a:t>
            </a:r>
            <a:endParaRPr b="0" lang="en-US" sz="1800" spc="-1" strike="noStrike">
              <a:solidFill>
                <a:srgbClr val="000000"/>
              </a:solidFill>
              <a:latin typeface="Arial"/>
            </a:endParaRPr>
          </a:p>
        </p:txBody>
      </p:sp>
      <p:sp>
        <p:nvSpPr>
          <p:cNvPr id="44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2" name=""/>
          <p:cNvGraphicFramePr/>
          <p:nvPr/>
        </p:nvGraphicFramePr>
        <p:xfrm>
          <a:off x="2608200" y="3838680"/>
          <a:ext cx="2990880" cy="1849320"/>
        </p:xfrm>
        <a:graphic>
          <a:graphicData uri="http://schemas.openxmlformats.org/presentationml/2006/ole">
            <p:oleObj r:id="rId1" spid="">
              <p:embed/>
              <p:pic>
                <p:nvPicPr>
                  <p:cNvPr id="443" name="" descr=""/>
                  <p:cNvPicPr/>
                  <p:nvPr/>
                </p:nvPicPr>
                <p:blipFill>
                  <a:blip r:embed="rId2"/>
                  <a:stretch/>
                </p:blipFill>
                <p:spPr>
                  <a:xfrm>
                    <a:off x="2608200" y="3838680"/>
                    <a:ext cx="2990880" cy="184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1280" y="475920"/>
            <a:ext cx="8229600" cy="604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tegrální tvar Maxwellových rovnic</a:t>
            </a: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1547640" y="1333440"/>
          <a:ext cx="5185080" cy="4189320"/>
        </p:xfrm>
        <a:graphic>
          <a:graphicData uri="http://schemas.openxmlformats.org/presentationml/2006/ole">
            <p:oleObj r:id="rId1" spid="">
              <p:embed/>
              <p:pic>
                <p:nvPicPr>
                  <p:cNvPr id="48" name="" descr=""/>
                  <p:cNvPicPr/>
                  <p:nvPr/>
                </p:nvPicPr>
                <p:blipFill>
                  <a:blip r:embed="rId2"/>
                  <a:stretch/>
                </p:blipFill>
                <p:spPr>
                  <a:xfrm>
                    <a:off x="1547640" y="1333440"/>
                    <a:ext cx="51850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150920" y="506520"/>
            <a:ext cx="6661080" cy="5262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368280"/>
            <a:ext cx="8229600" cy="5757840"/>
          </a:xfrm>
          <a:prstGeom prst="rect">
            <a:avLst/>
          </a:prstGeom>
          <a:noFill/>
          <a:ln w="0">
            <a:noFill/>
          </a:ln>
        </p:spPr>
        <p:txBody>
          <a:bodyPr anchor="t">
            <a:normAutofit/>
          </a:bodyPr>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Je patrná lineární závislost indukovaného napětí na rychlosti změny magnetického toku, tedy platnost vztahu </a:t>
            </a:r>
            <a:endParaRPr b="0" lang="en-US" sz="1600" spc="-1" strike="noStrike">
              <a:solidFill>
                <a:srgbClr val="000000"/>
              </a:solidFill>
              <a:latin typeface="Arial"/>
            </a:endParaRPr>
          </a:p>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                                                       </a:t>
            </a:r>
            <a:r>
              <a:rPr b="1" lang="cs-CZ" sz="1600" spc="-1" strike="noStrike">
                <a:solidFill>
                  <a:srgbClr val="333399"/>
                </a:solidFill>
                <a:latin typeface="Arial"/>
              </a:rPr>
              <a:t>.</a:t>
            </a:r>
            <a:endParaRPr b="0" lang="en-US" sz="1600" spc="-1" strike="noStrike">
              <a:solidFill>
                <a:srgbClr val="000000"/>
              </a:solidFill>
              <a:latin typeface="Arial"/>
            </a:endParaRPr>
          </a:p>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Ověření Lenzova pravidla  se dá provést tak, že magnetický tok bude klesat ze své maximální hodnoty na nulu. Znaménko indukovaného napětí se změní. Je možno namítnout, že toto ověření se vztahuje jen na případ, kdy se magnetický tok mění lineárně s časem. Pomocí analogového počítače a výkonového sledovače napětí lze ovšem modelovat různé časové průběhy proudu v magnetizačních cívkách a průběh indukovaného napětí porovnat s průběhem časové derivace magnetického toku. Tato měření autor dosud neprováděl, ale jejich složitost s vyhodnocení pomocí programu Excel není o mnoho obtížnější než měření již provedená. Také čtenáře může napadnout, že magnetické toky by se zvětšily použitím feromagnetického jádra. Protože však průběh závislosti magnetické indukce na intenzitě magnetického pole je nelineární (je dán magnetizační křivkou). Muselo by být prováděno měřené magnetické indukce uvnitř materiálu, což je velmi nesnadný úkol. Jedinou možností by bylo užití permendurového jádra, které má přibližně konstantní hodnotu relativní perme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věření rovnice 1c</a:t>
            </a:r>
            <a:endParaRPr b="0" lang="en-US" sz="2400" spc="-1" strike="noStrike">
              <a:solidFill>
                <a:srgbClr val="000000"/>
              </a:solidFill>
              <a:latin typeface="Arial"/>
            </a:endParaRPr>
          </a:p>
        </p:txBody>
      </p:sp>
      <p:sp>
        <p:nvSpPr>
          <p:cNvPr id="447" name="PlaceHolder 2"/>
          <p:cNvSpPr>
            <a:spLocks noGrp="1"/>
          </p:cNvSpPr>
          <p:nvPr>
            <p:ph/>
          </p:nvPr>
        </p:nvSpPr>
        <p:spPr>
          <a:xfrm>
            <a:off x="431640" y="1665360"/>
            <a:ext cx="8229600" cy="482112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blém ověření Gaussovy věty elektrostatické vyžaduje vyřešení dvou dílčích úloh. Jednak je to měření toku magnetické indukce uzavřenou plochou (levá strana vztahu 1c) , jednak určení volného náboje, který se uvnitř plochy nachází.  Začneme druhým z těchto úkolů. Je možno využít osamoceného kovového vodiče, který bude nabit na předem určené napětí. Uvažujme o izolované kouli (kulový konduktor, který je běžnou součástí vybavení fyzikálních kabinetů) o poloměru </a:t>
            </a:r>
            <a:r>
              <a:rPr b="1" i="1" lang="cs-CZ" sz="1800" spc="-1" strike="noStrike">
                <a:solidFill>
                  <a:srgbClr val="333399"/>
                </a:solidFill>
                <a:latin typeface="Arial"/>
              </a:rPr>
              <a:t>r.</a:t>
            </a:r>
            <a:r>
              <a:rPr b="1" lang="cs-CZ" sz="1800" spc="-1" strike="noStrike">
                <a:solidFill>
                  <a:srgbClr val="333399"/>
                </a:solidFill>
                <a:latin typeface="Arial"/>
              </a:rPr>
              <a:t> Její kapacita je dána známým vztahem</a:t>
            </a:r>
            <a:endParaRPr b="0" lang="en-US" sz="1800" spc="-1" strike="noStrike">
              <a:solidFill>
                <a:srgbClr val="000000"/>
              </a:solidFill>
              <a:latin typeface="Arial"/>
            </a:endParaRPr>
          </a:p>
        </p:txBody>
      </p:sp>
      <p:sp>
        <p:nvSpPr>
          <p:cNvPr id="4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9" name=""/>
          <p:cNvGraphicFramePr/>
          <p:nvPr/>
        </p:nvGraphicFramePr>
        <p:xfrm>
          <a:off x="3348000" y="4905360"/>
          <a:ext cx="2016000" cy="646200"/>
        </p:xfrm>
        <a:graphic>
          <a:graphicData uri="http://schemas.openxmlformats.org/presentationml/2006/ole">
            <p:oleObj r:id="rId1" spid="">
              <p:embed/>
              <p:pic>
                <p:nvPicPr>
                  <p:cNvPr id="450" name="" descr=""/>
                  <p:cNvPicPr/>
                  <p:nvPr/>
                </p:nvPicPr>
                <p:blipFill>
                  <a:blip r:embed="rId2"/>
                  <a:stretch/>
                </p:blipFill>
                <p:spPr>
                  <a:xfrm>
                    <a:off x="3348000" y="4905360"/>
                    <a:ext cx="2016000" cy="6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457200" y="441000"/>
            <a:ext cx="8229600" cy="568476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Zde       je permitivita vakua  (měření se provádí ve vzduchu, kde relativní permitivita je přibližně jedna). Při potenciálu </a:t>
            </a:r>
            <a:r>
              <a:rPr b="1" i="1" lang="cs-CZ" sz="1800" spc="-1" strike="noStrike">
                <a:solidFill>
                  <a:srgbClr val="333399"/>
                </a:solidFill>
                <a:latin typeface="Arial"/>
              </a:rPr>
              <a:t>V </a:t>
            </a:r>
            <a:r>
              <a:rPr b="1" lang="cs-CZ" sz="1800" spc="-1" strike="noStrike">
                <a:solidFill>
                  <a:srgbClr val="333399"/>
                </a:solidFill>
                <a:latin typeface="Arial"/>
              </a:rPr>
              <a:t>(měřenému proti zemi) </a:t>
            </a:r>
            <a:r>
              <a:rPr b="1" i="1" lang="cs-CZ" sz="1800" spc="-1" strike="noStrike">
                <a:solidFill>
                  <a:srgbClr val="333399"/>
                </a:solidFill>
                <a:latin typeface="Arial"/>
              </a:rPr>
              <a:t> , </a:t>
            </a:r>
            <a:r>
              <a:rPr b="1" lang="cs-CZ" sz="1800" spc="-1" strike="noStrike">
                <a:solidFill>
                  <a:srgbClr val="333399"/>
                </a:solidFill>
                <a:latin typeface="Arial"/>
              </a:rPr>
              <a:t>bude na kouli náboj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ostup při nabíjení koule je patrný z obrázku   .</a:t>
            </a:r>
            <a:endParaRPr b="0" lang="en-US" sz="1800" spc="-1" strike="noStrike">
              <a:solidFill>
                <a:srgbClr val="000000"/>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3" name=""/>
          <p:cNvGraphicFramePr/>
          <p:nvPr/>
        </p:nvGraphicFramePr>
        <p:xfrm>
          <a:off x="1403280" y="404640"/>
          <a:ext cx="290520" cy="409680"/>
        </p:xfrm>
        <a:graphic>
          <a:graphicData uri="http://schemas.openxmlformats.org/presentationml/2006/ole">
            <p:oleObj r:id="rId1" spid="">
              <p:embed/>
              <p:pic>
                <p:nvPicPr>
                  <p:cNvPr id="454" name="" descr=""/>
                  <p:cNvPicPr/>
                  <p:nvPr/>
                </p:nvPicPr>
                <p:blipFill>
                  <a:blip r:embed="rId2"/>
                  <a:stretch/>
                </p:blipFill>
                <p:spPr>
                  <a:xfrm>
                    <a:off x="1403280" y="404640"/>
                    <a:ext cx="290520" cy="409680"/>
                  </a:xfrm>
                  <a:prstGeom prst="rect">
                    <a:avLst/>
                  </a:prstGeom>
                  <a:ln w="0">
                    <a:noFill/>
                  </a:ln>
                </p:spPr>
              </p:pic>
            </p:oleObj>
          </a:graphicData>
        </a:graphic>
      </p:graphicFrame>
      <p:sp>
        <p:nvSpPr>
          <p:cNvPr id="4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6" name=""/>
          <p:cNvGraphicFramePr/>
          <p:nvPr/>
        </p:nvGraphicFramePr>
        <p:xfrm>
          <a:off x="2700360" y="1601640"/>
          <a:ext cx="1547640" cy="581040"/>
        </p:xfrm>
        <a:graphic>
          <a:graphicData uri="http://schemas.openxmlformats.org/presentationml/2006/ole">
            <p:oleObj r:id="rId3" spid="">
              <p:embed/>
              <p:pic>
                <p:nvPicPr>
                  <p:cNvPr id="457" name="" descr=""/>
                  <p:cNvPicPr/>
                  <p:nvPr/>
                </p:nvPicPr>
                <p:blipFill>
                  <a:blip r:embed="rId4"/>
                  <a:stretch/>
                </p:blipFill>
                <p:spPr>
                  <a:xfrm>
                    <a:off x="2700360" y="1601640"/>
                    <a:ext cx="154764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59" name=""/>
          <p:cNvGrpSpPr/>
          <p:nvPr/>
        </p:nvGrpSpPr>
        <p:grpSpPr>
          <a:xfrm>
            <a:off x="1550880" y="2789280"/>
            <a:ext cx="4705560" cy="1845360"/>
            <a:chOff x="1550880" y="2789280"/>
            <a:chExt cx="4705560" cy="1845360"/>
          </a:xfrm>
        </p:grpSpPr>
        <p:sp>
          <p:nvSpPr>
            <p:cNvPr id="460" name=""/>
            <p:cNvSpPr/>
            <p:nvPr/>
          </p:nvSpPr>
          <p:spPr>
            <a:xfrm>
              <a:off x="1550880" y="3222720"/>
              <a:ext cx="1882800" cy="12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700880" y="2789280"/>
              <a:ext cx="434160" cy="4334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881960" y="3222720"/>
              <a:ext cx="72000" cy="1231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rot="10800000">
              <a:off x="4591800" y="4453560"/>
              <a:ext cx="651600" cy="181080"/>
            </a:xfrm>
            <a:custGeom>
              <a:avLst/>
              <a:gdLst>
                <a:gd name="textAreaLeft" fmla="*/ 143280 w 651600"/>
                <a:gd name="textAreaRight" fmla="*/ 508320 w 651600"/>
                <a:gd name="textAreaTop" fmla="*/ 39600 h 181080"/>
                <a:gd name="textAreaBottom" fmla="*/ 141480 h 18108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099040" y="3911040"/>
              <a:ext cx="1157400" cy="687600"/>
            </a:xfrm>
            <a:prstGeom prst="wedgeEllipseCallout">
              <a:avLst>
                <a:gd name="adj1" fmla="val -47421"/>
                <a:gd name="adj2" fmla="val 482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olační stojan</a:t>
              </a:r>
              <a:endParaRPr b="0" lang="en-US" sz="1200" spc="-1" strike="noStrike">
                <a:solidFill>
                  <a:srgbClr val="000000"/>
                </a:solidFill>
                <a:latin typeface="Arial"/>
              </a:endParaRPr>
            </a:p>
          </p:txBody>
        </p:sp>
        <p:sp>
          <p:nvSpPr>
            <p:cNvPr id="465" name=""/>
            <p:cNvSpPr/>
            <p:nvPr/>
          </p:nvSpPr>
          <p:spPr>
            <a:xfrm>
              <a:off x="3324600" y="4164480"/>
              <a:ext cx="3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650760" y="4164480"/>
              <a:ext cx="0" cy="43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505680" y="4598640"/>
              <a:ext cx="25308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8" name=""/>
            <p:cNvSpPr/>
            <p:nvPr/>
          </p:nvSpPr>
          <p:spPr>
            <a:xfrm>
              <a:off x="3252240" y="3621600"/>
              <a:ext cx="72000" cy="72360"/>
            </a:xfrm>
            <a:prstGeom prst="octagon">
              <a:avLst>
                <a:gd name="adj" fmla="val 29287"/>
              </a:avLst>
            </a:prstGeom>
            <a:solidFill>
              <a:srgbClr val="ffffff"/>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cxnSp>
          <p:nvCxnSpPr>
            <p:cNvPr id="469" name=""/>
            <p:cNvCxnSpPr>
              <a:stCxn id="468" idx="3"/>
              <a:endCxn id="461" idx="2"/>
            </p:cNvCxnSpPr>
            <p:nvPr/>
          </p:nvCxnSpPr>
          <p:spPr>
            <a:xfrm flipV="1">
              <a:off x="3324600" y="3006000"/>
              <a:ext cx="1376640" cy="651600"/>
            </a:xfrm>
            <a:prstGeom prst="curvedConnector5">
              <a:avLst>
                <a:gd name="adj1" fmla="val 49986"/>
                <a:gd name="adj2" fmla="val 49972"/>
                <a:gd name="adj3" fmla="val 49986"/>
              </a:avLst>
            </a:prstGeom>
            <a:ln w="9360">
              <a:solidFill>
                <a:srgbClr val="000000"/>
              </a:solidFill>
              <a:miter/>
            </a:ln>
          </p:spPr>
        </p:cxnSp>
      </p:grpSp>
      <p:sp>
        <p:nvSpPr>
          <p:cNvPr id="470" name=""/>
          <p:cNvSpPr/>
          <p:nvPr/>
        </p:nvSpPr>
        <p:spPr>
          <a:xfrm>
            <a:off x="1655640" y="3465360"/>
            <a:ext cx="1548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N zdroj</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 kilovoltmetrem</a:t>
            </a:r>
            <a:endParaRPr b="0" lang="en-US" sz="1200" spc="-1" strike="noStrike">
              <a:solidFill>
                <a:srgbClr val="000000"/>
              </a:solidFill>
              <a:latin typeface="Arial"/>
            </a:endParaRPr>
          </a:p>
        </p:txBody>
      </p:sp>
      <p:sp>
        <p:nvSpPr>
          <p:cNvPr id="471" name=""/>
          <p:cNvSpPr/>
          <p:nvPr/>
        </p:nvSpPr>
        <p:spPr>
          <a:xfrm>
            <a:off x="5148360" y="2313000"/>
            <a:ext cx="1476360" cy="50328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lový kondukt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VN zdroj před zapnutím propojíme s koulí dobře izolovaným vodičem. Potom voltmetr zapneme a nastavíme žádané napětí (např.1 kV). Potom spojení zdroje koule a zdroje přerušíme. Koule bude nabita nábojem daným vztahem (). (Předpokládá se, že poloměr koule je předem změřen.) Tímto způsobem je možno vodivou kouli nabít na potenciál, který je omezen rozsahem zdroje.</a:t>
            </a: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Druhý, neméně náročný úkol spočívá v určení hodnoty plošného integrálu na levé straně vtahu (1c). Měření se opírá o skutečnost, že vektor elektrické indukce procházející kovovou destičkou vyvolá na jejím povrchu indukovaný náboj s plošnou hustotou </a:t>
            </a:r>
            <a:endParaRPr b="0" lang="en-US" sz="1800" spc="-1" strike="noStrike">
              <a:solidFill>
                <a:srgbClr val="000000"/>
              </a:solidFill>
              <a:latin typeface="Arial"/>
            </a:endParaRPr>
          </a:p>
        </p:txBody>
      </p:sp>
      <p:sp>
        <p:nvSpPr>
          <p:cNvPr id="4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4" name=""/>
          <p:cNvGraphicFramePr/>
          <p:nvPr/>
        </p:nvGraphicFramePr>
        <p:xfrm>
          <a:off x="3024360" y="4165560"/>
          <a:ext cx="1511280" cy="806400"/>
        </p:xfrm>
        <a:graphic>
          <a:graphicData uri="http://schemas.openxmlformats.org/presentationml/2006/ole">
            <p:oleObj r:id="rId1" spid="">
              <p:embed/>
              <p:pic>
                <p:nvPicPr>
                  <p:cNvPr id="475" name="" descr=""/>
                  <p:cNvPicPr/>
                  <p:nvPr/>
                </p:nvPicPr>
                <p:blipFill>
                  <a:blip r:embed="rId2"/>
                  <a:stretch/>
                </p:blipFill>
                <p:spPr>
                  <a:xfrm>
                    <a:off x="3024360" y="4165560"/>
                    <a:ext cx="151128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kde </a:t>
            </a:r>
            <a:r>
              <a:rPr b="1" i="1" lang="cs-CZ" sz="1800" spc="-1" strike="noStrike">
                <a:solidFill>
                  <a:srgbClr val="333399"/>
                </a:solidFill>
                <a:latin typeface="Arial"/>
              </a:rPr>
              <a:t>Dn </a:t>
            </a:r>
            <a:r>
              <a:rPr b="1" lang="cs-CZ" sz="1800" spc="-1" strike="noStrike">
                <a:solidFill>
                  <a:srgbClr val="333399"/>
                </a:solidFill>
                <a:latin typeface="Arial"/>
              </a:rPr>
              <a:t> je normálová složka tohoto vektoru. Levou stranu vztahu (1c) však lze upravit </a:t>
            </a: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a:t>
            </a: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Tok vektoru elektrické indukce je určen indukovaným nábojem na uzavřené ploše.  Tento indukovaný náboj můžeme měřit již popsaným způsobem. Je-li kapacita tělesa </a:t>
            </a:r>
            <a:r>
              <a:rPr b="1" i="1" lang="cs-CZ" sz="1800" spc="-1" strike="noStrike">
                <a:solidFill>
                  <a:srgbClr val="333399"/>
                </a:solidFill>
                <a:latin typeface="Arial"/>
              </a:rPr>
              <a:t>C´</a:t>
            </a:r>
            <a:r>
              <a:rPr b="1" lang="cs-CZ" sz="1800" spc="-1" strike="noStrike">
                <a:solidFill>
                  <a:srgbClr val="333399"/>
                </a:solidFill>
                <a:latin typeface="Arial"/>
              </a:rPr>
              <a:t> a na tělese naměříme potenciál </a:t>
            </a:r>
            <a:r>
              <a:rPr b="1" i="1" lang="cs-CZ" sz="1800" spc="-1" strike="noStrike">
                <a:solidFill>
                  <a:srgbClr val="333399"/>
                </a:solidFill>
                <a:latin typeface="Arial"/>
              </a:rPr>
              <a:t>V´</a:t>
            </a:r>
            <a:r>
              <a:rPr b="1" lang="cs-CZ" sz="1800" spc="-1" strike="noStrike">
                <a:solidFill>
                  <a:srgbClr val="333399"/>
                </a:solidFill>
                <a:latin typeface="Arial"/>
              </a:rPr>
              <a:t>, bude pro indukovaný náboj platit                              . </a:t>
            </a: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Vlastní měření provedeme tak, že vnější těleso, na němž měříme indukovaný náboj volíme průhledné (skládá se ze dvou polokulových cedníků – obr. () ).</a:t>
            </a:r>
            <a:endParaRPr b="0" lang="en-US" sz="1800" spc="-1" strike="noStrike">
              <a:solidFill>
                <a:srgbClr val="000000"/>
              </a:solidFill>
              <a:latin typeface="Arial"/>
            </a:endParaRPr>
          </a:p>
        </p:txBody>
      </p:sp>
      <p:sp>
        <p:nvSpPr>
          <p:cNvPr id="4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8" name=""/>
          <p:cNvGraphicFramePr/>
          <p:nvPr/>
        </p:nvGraphicFramePr>
        <p:xfrm>
          <a:off x="2050920" y="1044720"/>
          <a:ext cx="4645080" cy="882360"/>
        </p:xfrm>
        <a:graphic>
          <a:graphicData uri="http://schemas.openxmlformats.org/presentationml/2006/ole">
            <p:oleObj r:id="rId1" spid="">
              <p:embed/>
              <p:pic>
                <p:nvPicPr>
                  <p:cNvPr id="479" name="" descr=""/>
                  <p:cNvPicPr/>
                  <p:nvPr/>
                </p:nvPicPr>
                <p:blipFill>
                  <a:blip r:embed="rId2"/>
                  <a:stretch/>
                </p:blipFill>
                <p:spPr>
                  <a:xfrm>
                    <a:off x="2050920" y="1044720"/>
                    <a:ext cx="4645080" cy="882360"/>
                  </a:xfrm>
                  <a:prstGeom prst="rect">
                    <a:avLst/>
                  </a:prstGeom>
                  <a:ln w="0">
                    <a:noFill/>
                  </a:ln>
                </p:spPr>
              </p:pic>
            </p:oleObj>
          </a:graphicData>
        </a:graphic>
      </p:graphicFrame>
      <p:sp>
        <p:nvSpPr>
          <p:cNvPr id="4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1" name=""/>
          <p:cNvGraphicFramePr/>
          <p:nvPr/>
        </p:nvGraphicFramePr>
        <p:xfrm>
          <a:off x="4788000" y="3270240"/>
          <a:ext cx="1152360" cy="431640"/>
        </p:xfrm>
        <a:graphic>
          <a:graphicData uri="http://schemas.openxmlformats.org/presentationml/2006/ole">
            <p:oleObj r:id="rId3" spid="">
              <p:embed/>
              <p:pic>
                <p:nvPicPr>
                  <p:cNvPr id="482" name="" descr=""/>
                  <p:cNvPicPr/>
                  <p:nvPr/>
                </p:nvPicPr>
                <p:blipFill>
                  <a:blip r:embed="rId4"/>
                  <a:stretch/>
                </p:blipFill>
                <p:spPr>
                  <a:xfrm>
                    <a:off x="4788000" y="3270240"/>
                    <a:ext cx="1152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
          <p:cNvGrpSpPr/>
          <p:nvPr/>
        </p:nvGrpSpPr>
        <p:grpSpPr>
          <a:xfrm>
            <a:off x="1225800" y="1233360"/>
            <a:ext cx="4884840" cy="3040920"/>
            <a:chOff x="1225800" y="1233360"/>
            <a:chExt cx="4884840" cy="3040920"/>
          </a:xfrm>
        </p:grpSpPr>
        <p:sp>
          <p:nvSpPr>
            <p:cNvPr id="484" name=""/>
            <p:cNvSpPr/>
            <p:nvPr/>
          </p:nvSpPr>
          <p:spPr>
            <a:xfrm>
              <a:off x="2673000" y="2898000"/>
              <a:ext cx="36360" cy="1122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10800000">
              <a:off x="5315400" y="4019760"/>
              <a:ext cx="542160" cy="181080"/>
            </a:xfrm>
            <a:custGeom>
              <a:avLst/>
              <a:gdLst>
                <a:gd name="textAreaLeft" fmla="*/ 119160 w 542160"/>
                <a:gd name="textAreaRight" fmla="*/ 423000 w 542160"/>
                <a:gd name="textAreaTop" fmla="*/ 39600 h 181080"/>
                <a:gd name="textAreaBottom" fmla="*/ 141480 h 181080"/>
              </a:gdLst>
              <a:ahLst/>
              <a:rect l="textAreaLeft" t="textAreaTop" r="textAreaRight" b="textAreaBottom"/>
              <a:pathLst>
                <a:path w="21600" h="21600">
                  <a:moveTo>
                    <a:pt x="0" y="0"/>
                  </a:moveTo>
                  <a:lnTo>
                    <a:pt x="21600" y="0"/>
                  </a:lnTo>
                  <a:lnTo>
                    <a:pt x="16200" y="21600"/>
                  </a:lnTo>
                  <a:lnTo>
                    <a:pt x="540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10800000">
              <a:off x="2419200" y="4019760"/>
              <a:ext cx="543960" cy="181080"/>
            </a:xfrm>
            <a:custGeom>
              <a:avLst/>
              <a:gdLst>
                <a:gd name="textAreaLeft" fmla="*/ 119520 w 543960"/>
                <a:gd name="textAreaRight" fmla="*/ 424440 w 543960"/>
                <a:gd name="textAreaTop" fmla="*/ 39600 h 181080"/>
                <a:gd name="textAreaBottom" fmla="*/ 141480 h 18108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92280" y="2898000"/>
              <a:ext cx="795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288240" y="2174760"/>
              <a:ext cx="1447920" cy="1447200"/>
            </a:xfrm>
            <a:prstGeom prst="ellipse">
              <a:avLst/>
            </a:prstGeom>
            <a:solidFill>
              <a:srgbClr val="ffffff"/>
            </a:solidFill>
            <a:ln w="1260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492280" y="2790000"/>
              <a:ext cx="795600" cy="720"/>
            </a:xfrm>
            <a:prstGeom prst="line">
              <a:avLst/>
            </a:prstGeom>
            <a:ln w="28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0" name=""/>
            <p:cNvSpPr/>
            <p:nvPr/>
          </p:nvSpPr>
          <p:spPr>
            <a:xfrm>
              <a:off x="4699800" y="2862360"/>
              <a:ext cx="72000" cy="72360"/>
            </a:xfrm>
            <a:prstGeom prst="ellipse">
              <a:avLst/>
            </a:prstGeom>
            <a:solidFill>
              <a:srgbClr val="0000ff"/>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cxnSp>
          <p:nvCxnSpPr>
            <p:cNvPr id="491" name=""/>
            <p:cNvCxnSpPr>
              <a:stCxn id="489" idx="0"/>
            </p:cNvCxnSpPr>
            <p:nvPr/>
          </p:nvCxnSpPr>
          <p:spPr>
            <a:xfrm flipH="1" flipV="1" rot="5400000">
              <a:off x="2226960" y="1932120"/>
              <a:ext cx="1108080" cy="578880"/>
            </a:xfrm>
            <a:prstGeom prst="curvedConnector5">
              <a:avLst>
                <a:gd name="adj1" fmla="val 49333"/>
                <a:gd name="adj2" fmla="val 49968"/>
                <a:gd name="adj3" fmla="val 49333"/>
              </a:avLst>
            </a:prstGeom>
            <a:ln w="9360">
              <a:solidFill>
                <a:srgbClr val="ff6600"/>
              </a:solidFill>
              <a:miter/>
            </a:ln>
          </p:spPr>
        </p:cxnSp>
        <p:sp>
          <p:nvSpPr>
            <p:cNvPr id="492" name=""/>
            <p:cNvSpPr/>
            <p:nvPr/>
          </p:nvSpPr>
          <p:spPr>
            <a:xfrm>
              <a:off x="4301640" y="2898000"/>
              <a:ext cx="12668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568480" y="2680920"/>
              <a:ext cx="72000" cy="1339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532480" y="2825640"/>
              <a:ext cx="145440" cy="144720"/>
            </a:xfrm>
            <a:prstGeom prst="hexagon">
              <a:avLst>
                <a:gd name="adj" fmla="val 25124"/>
                <a:gd name="vf" fmla="val 115470"/>
              </a:avLst>
            </a:prstGeom>
            <a:solidFill>
              <a:srgbClr val="ff6600"/>
            </a:solidFill>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95" name=""/>
            <p:cNvSpPr/>
            <p:nvPr/>
          </p:nvSpPr>
          <p:spPr>
            <a:xfrm>
              <a:off x="3939480" y="2717640"/>
              <a:ext cx="361800" cy="36216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1514520" y="2898000"/>
              <a:ext cx="101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297800" y="3224520"/>
              <a:ext cx="43416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514880" y="2898000"/>
              <a:ext cx="0" cy="3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514880" y="3657960"/>
              <a:ext cx="0" cy="50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69800" y="4164840"/>
              <a:ext cx="25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369800" y="3296880"/>
              <a:ext cx="25380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Ční držák</a:t>
              </a:r>
              <a:endParaRPr b="0" lang="en-US" sz="1200" spc="-1" strike="noStrike">
                <a:solidFill>
                  <a:srgbClr val="000000"/>
                </a:solidFill>
                <a:latin typeface="Arial"/>
              </a:endParaRPr>
            </a:p>
          </p:txBody>
        </p:sp>
        <p:sp>
          <p:nvSpPr>
            <p:cNvPr id="502" name=""/>
            <p:cNvSpPr/>
            <p:nvPr/>
          </p:nvSpPr>
          <p:spPr>
            <a:xfrm>
              <a:off x="5025960" y="2065680"/>
              <a:ext cx="1084680" cy="579240"/>
            </a:xfrm>
            <a:prstGeom prst="wedgeRoundRectCallout">
              <a:avLst>
                <a:gd name="adj1" fmla="val -43736"/>
                <a:gd name="adj2" fmla="val 925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olační držák</a:t>
              </a:r>
              <a:endParaRPr b="0" lang="en-US" sz="1200" spc="-1" strike="noStrike">
                <a:solidFill>
                  <a:srgbClr val="000000"/>
                </a:solidFill>
                <a:latin typeface="Arial"/>
              </a:endParaRPr>
            </a:p>
          </p:txBody>
        </p:sp>
        <p:sp>
          <p:nvSpPr>
            <p:cNvPr id="503" name=""/>
            <p:cNvSpPr/>
            <p:nvPr/>
          </p:nvSpPr>
          <p:spPr>
            <a:xfrm>
              <a:off x="3686400" y="1233360"/>
              <a:ext cx="1194480" cy="832320"/>
            </a:xfrm>
            <a:prstGeom prst="wedgeRoundRectCallout">
              <a:avLst>
                <a:gd name="adj1" fmla="val -44685"/>
                <a:gd name="adj2" fmla="val 69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ěleso pro měření indukovaného náboje</a:t>
              </a:r>
              <a:endParaRPr b="0" lang="en-US" sz="1200" spc="-1" strike="noStrike">
                <a:solidFill>
                  <a:srgbClr val="000000"/>
                </a:solidFill>
                <a:latin typeface="Arial"/>
              </a:endParaRPr>
            </a:p>
          </p:txBody>
        </p:sp>
        <p:sp>
          <p:nvSpPr>
            <p:cNvPr id="504" name=""/>
            <p:cNvSpPr/>
            <p:nvPr/>
          </p:nvSpPr>
          <p:spPr>
            <a:xfrm rot="10800000">
              <a:off x="1225800" y="2174760"/>
              <a:ext cx="868320" cy="470160"/>
            </a:xfrm>
            <a:prstGeom prst="wedgeRoundRectCallout">
              <a:avLst>
                <a:gd name="adj1" fmla="val -155703"/>
                <a:gd name="adj2" fmla="val 105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olační vlákno</a:t>
              </a:r>
              <a:endParaRPr b="0" lang="en-US" sz="1200" spc="-1" strike="noStrike">
                <a:solidFill>
                  <a:srgbClr val="000000"/>
                </a:solidFill>
                <a:latin typeface="Arial"/>
              </a:endParaRPr>
            </a:p>
          </p:txBody>
        </p:sp>
        <p:sp>
          <p:nvSpPr>
            <p:cNvPr id="505" name=""/>
            <p:cNvSpPr/>
            <p:nvPr/>
          </p:nvSpPr>
          <p:spPr>
            <a:xfrm>
              <a:off x="3143880" y="3839760"/>
              <a:ext cx="939600" cy="434520"/>
            </a:xfrm>
            <a:prstGeom prst="wedgeRoundRectCallout">
              <a:avLst>
                <a:gd name="adj1" fmla="val -79708"/>
                <a:gd name="adj2" fmla="val 1037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olační držák</a:t>
              </a:r>
              <a:endParaRPr b="0" lang="en-US" sz="1200" spc="-1" strike="noStrike">
                <a:solidFill>
                  <a:srgbClr val="000000"/>
                </a:solidFill>
                <a:latin typeface="Arial"/>
              </a:endParaRPr>
            </a:p>
          </p:txBody>
        </p:sp>
        <p:sp>
          <p:nvSpPr>
            <p:cNvPr id="506" name=""/>
            <p:cNvSpPr/>
            <p:nvPr/>
          </p:nvSpPr>
          <p:spPr>
            <a:xfrm rot="7259400">
              <a:off x="4764960" y="3420360"/>
              <a:ext cx="542520" cy="433080"/>
            </a:xfrm>
            <a:prstGeom prst="wedgeRoundRectCallout">
              <a:avLst>
                <a:gd name="adj1" fmla="val -75013"/>
                <a:gd name="adj2" fmla="val 12935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t</a:t>
              </a:r>
              <a:endParaRPr b="0" lang="en-US" sz="1200" spc="-1" strike="noStrike">
                <a:solidFill>
                  <a:srgbClr val="000000"/>
                </a:solidFill>
                <a:latin typeface="Arial"/>
              </a:endParaRPr>
            </a:p>
          </p:txBody>
        </p:sp>
      </p:grpSp>
      <p:sp>
        <p:nvSpPr>
          <p:cNvPr id="507" name=""/>
          <p:cNvSpPr/>
          <p:nvPr/>
        </p:nvSpPr>
        <p:spPr>
          <a:xfrm>
            <a:off x="1079640" y="4184640"/>
            <a:ext cx="565308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297000"/>
            <a:ext cx="8229600" cy="637200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lou vodivou kouli nabijeme při otevřené velké kouli na požadovaný náboj. Vnější těleso uzavřeme a elektrostatickým voltmetrem změříme indukovaný náboj. Nejprve ukážeme, že velikost indukovaného náboje nezávisí na poloze vnitřní malé koule. Zde využíváme skutečnosti, že cedníky jsou průhledné. Pokus se provede tak, že malou kouli nabijeme na zvolený potenciál při otevřené vnější kouli. Potom vnější kouli uzavřeme a připojíme na elektrostatický voltmetr. Údaj tohoto voltmetru se nemění, když polohu malé koule měníme pomocí izolovaného držáku. Dalším krokem je ověření závislosti indukovaného náboje na náboji  (potenciálu) vnitřní koule. Postup je stejný jako v předchozím případě. Náboj na vnitřní kouli však postupně měníme. Výsledek je znázorněn v graf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503280" y="595440"/>
            <a:ext cx="8101080" cy="546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věření rovnice (1a)</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Ověření rovnice (1a) může být provedeno ve dvou krocích. V prvním se ověří Ampérův zákon celkového proudu, tedy vztah (1a) bez členu , který představuje posuvný proud. Druhý krok bude spočívat v důkazu, že také posuvný proud vytváří magnetické pole a má stejné účinky jako proudy kondukční a konvekční ( vyvolané rozdílem potenciálů v kovovém vodiči nebo nesené makroskopickými částicemi).</a:t>
            </a: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Ověření Ampérova zákona</a:t>
            </a:r>
            <a:r>
              <a:rPr b="0" lang="cs-CZ" sz="2000" spc="-1" strike="noStrike">
                <a:solidFill>
                  <a:srgbClr val="333399"/>
                </a:solidFill>
                <a:latin typeface="Arial"/>
              </a:rPr>
              <a:t> </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Arial"/>
              </a:rPr>
              <a:t>                         </a:t>
            </a:r>
            <a:endParaRPr b="0" lang="en-US" sz="20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3348000" y="4941720"/>
          <a:ext cx="2232000" cy="900360"/>
        </p:xfrm>
        <a:graphic>
          <a:graphicData uri="http://schemas.openxmlformats.org/presentationml/2006/ole">
            <p:oleObj r:id="rId1" spid="">
              <p:embed/>
              <p:pic>
                <p:nvPicPr>
                  <p:cNvPr id="53" name="" descr=""/>
                  <p:cNvPicPr/>
                  <p:nvPr/>
                </p:nvPicPr>
                <p:blipFill>
                  <a:blip r:embed="rId2"/>
                  <a:stretch/>
                </p:blipFill>
                <p:spPr>
                  <a:xfrm>
                    <a:off x="3348000" y="4941720"/>
                    <a:ext cx="223200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Čtenáře jistě překvapí malé hodnoty potenciálu naměřené na velké kouli. Hlavní příčinou je kapacita elektrostatického voltmetru, kterým toto napětí měříme. Z grafu je vcelku dobře pozorovatelná lineární závislost indukovaného náboje na vnější kouli na náboji uvnitř. Vlastní provedení je poněkud časově náročné a bezprostředně se nehodí jako demonstrační pokus. Tohoto postupu lze však užít pro samostatnou práci studentů v semináři. I přes uvedené nedostatky jsou přesvědčivost pokusu a jeho didaktický přínos natolik vysoké, že opravňují jeho provedení ve vysokoškolském kurzu fyzi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457200" y="296640"/>
            <a:ext cx="822960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věření rovnice 1d</a:t>
            </a:r>
            <a:endParaRPr b="0" lang="en-US" sz="24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ovnice 1b má sice jednodušší tvar, její ověřování však představuje rovněž značný problém. Velkým problémem je zejména měření magnetického toku uzavřenou plochu. Jedinou možností je vyjít z definice integrálu jako součtu příspěvků od  jednotlivých malých plošek. Matematicky to lze vyjádřit  jako</a:t>
            </a: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3" name=""/>
          <p:cNvGraphicFramePr/>
          <p:nvPr/>
        </p:nvGraphicFramePr>
        <p:xfrm>
          <a:off x="2592360" y="3006720"/>
          <a:ext cx="2808360" cy="1052640"/>
        </p:xfrm>
        <a:graphic>
          <a:graphicData uri="http://schemas.openxmlformats.org/presentationml/2006/ole">
            <p:oleObj r:id="rId1" spid="">
              <p:embed/>
              <p:pic>
                <p:nvPicPr>
                  <p:cNvPr id="514" name="" descr=""/>
                  <p:cNvPicPr/>
                  <p:nvPr/>
                </p:nvPicPr>
                <p:blipFill>
                  <a:blip r:embed="rId2"/>
                  <a:stretch/>
                </p:blipFill>
                <p:spPr>
                  <a:xfrm>
                    <a:off x="2592360" y="3006720"/>
                    <a:ext cx="2808360" cy="1052640"/>
                  </a:xfrm>
                  <a:prstGeom prst="rect">
                    <a:avLst/>
                  </a:prstGeom>
                  <a:ln w="0">
                    <a:noFill/>
                  </a:ln>
                </p:spPr>
              </p:pic>
            </p:oleObj>
          </a:graphicData>
        </a:graphic>
      </p:graphicFrame>
      <p:sp>
        <p:nvSpPr>
          <p:cNvPr id="515" name=""/>
          <p:cNvSpPr/>
          <p:nvPr/>
        </p:nvSpPr>
        <p:spPr>
          <a:xfrm>
            <a:off x="324000" y="4329000"/>
            <a:ext cx="8820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bovolnou plochu můžeme rozložit na určitý počet jednoduchých plošek. Hodnota integrálu je nahrazena součtem magnetických toků těmito malými ploškami. Prvním krokem je tedy měření magnetického toku malou plochou. K tomu se užije měření změny magnetického toku malou cívkou, která má </a:t>
            </a:r>
            <a:r>
              <a:rPr b="1" i="1" lang="en-US" sz="1800" spc="-1" strike="noStrike">
                <a:solidFill>
                  <a:srgbClr val="333399"/>
                </a:solidFill>
                <a:latin typeface="Arial"/>
              </a:rPr>
              <a:t>n</a:t>
            </a:r>
            <a:r>
              <a:rPr b="1" lang="en-US" sz="1800" spc="-1" strike="noStrike">
                <a:solidFill>
                  <a:srgbClr val="333399"/>
                </a:solidFill>
                <a:latin typeface="Arial"/>
              </a:rPr>
              <a:t> závitů. Uspořádání tohoto pokusu je na ob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457200" y="367920"/>
            <a:ext cx="8229600" cy="61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7" name=""/>
          <p:cNvGrpSpPr/>
          <p:nvPr/>
        </p:nvGrpSpPr>
        <p:grpSpPr>
          <a:xfrm>
            <a:off x="2560680" y="2531520"/>
            <a:ext cx="2316240" cy="2605320"/>
            <a:chOff x="2560680" y="2531520"/>
            <a:chExt cx="2316240" cy="2605320"/>
          </a:xfrm>
        </p:grpSpPr>
        <p:sp>
          <p:nvSpPr>
            <p:cNvPr id="518" name=""/>
            <p:cNvSpPr/>
            <p:nvPr/>
          </p:nvSpPr>
          <p:spPr>
            <a:xfrm>
              <a:off x="2560680" y="2892960"/>
              <a:ext cx="0" cy="191880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2560680" y="2531520"/>
              <a:ext cx="904680" cy="3610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465360" y="2531880"/>
              <a:ext cx="720" cy="191880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2560680" y="4413600"/>
              <a:ext cx="904680" cy="3610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22" name=""/>
            <p:cNvCxnSpPr>
              <a:stCxn id="521" idx="0"/>
            </p:cNvCxnSpPr>
            <p:nvPr/>
          </p:nvCxnSpPr>
          <p:spPr>
            <a:xfrm flipH="1" rot="16200000">
              <a:off x="3758760" y="4091400"/>
              <a:ext cx="752040" cy="1339200"/>
            </a:xfrm>
            <a:prstGeom prst="curvedConnector5">
              <a:avLst>
                <a:gd name="adj1" fmla="val -26676"/>
                <a:gd name="adj2" fmla="val 24952"/>
                <a:gd name="adj3" fmla="val -26676"/>
              </a:avLst>
            </a:prstGeom>
            <a:ln w="28440">
              <a:solidFill>
                <a:srgbClr val="ff6600"/>
              </a:solidFill>
              <a:miter/>
            </a:ln>
          </p:spPr>
        </p:cxnSp>
        <p:cxnSp>
          <p:nvCxnSpPr>
            <p:cNvPr id="523" name=""/>
            <p:cNvCxnSpPr>
              <a:stCxn id="521" idx="1"/>
            </p:cNvCxnSpPr>
            <p:nvPr/>
          </p:nvCxnSpPr>
          <p:spPr>
            <a:xfrm flipH="1" rot="16200000">
              <a:off x="3921840" y="3928320"/>
              <a:ext cx="498600" cy="1412280"/>
            </a:xfrm>
            <a:prstGeom prst="curvedConnector5">
              <a:avLst>
                <a:gd name="adj1" fmla="val -40245"/>
                <a:gd name="adj2" fmla="val 24987"/>
                <a:gd name="adj3" fmla="val -40245"/>
              </a:avLst>
            </a:prstGeom>
            <a:ln w="28440">
              <a:solidFill>
                <a:srgbClr val="ff6600"/>
              </a:solidFill>
              <a:miter/>
            </a:ln>
          </p:spPr>
        </p:cxnSp>
        <p:sp>
          <p:nvSpPr>
            <p:cNvPr id="524" name=""/>
            <p:cNvSpPr/>
            <p:nvPr/>
          </p:nvSpPr>
          <p:spPr>
            <a:xfrm rot="20577600">
              <a:off x="2850120" y="3436200"/>
              <a:ext cx="1158480" cy="14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rot="20513400">
              <a:off x="2880720" y="3587400"/>
              <a:ext cx="109440" cy="144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rot="20513400">
              <a:off x="3863160" y="3291840"/>
              <a:ext cx="108720" cy="143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3574440" y="3110400"/>
              <a:ext cx="3981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395280" y="297000"/>
            <a:ext cx="8229600" cy="6300720"/>
          </a:xfrm>
          <a:prstGeom prst="rect">
            <a:avLst/>
          </a:prstGeom>
          <a:noFill/>
          <a:ln w="0">
            <a:noFill/>
          </a:ln>
        </p:spPr>
        <p:txBody>
          <a:bodyPr lIns="90000" rIns="90000" tIns="46800" bIns="46800" anchor="t">
            <a:normAutofit/>
          </a:bodyPr>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chází-li plochou cívky magnetický tok Ф, bude účinný magnetický tok  . Klesne-li tento magnetický tok na nulu (když vytáhneme magnet), indukuje se v cívce napětí </a:t>
            </a:r>
            <a:endParaRPr b="0" lang="en-US" sz="1600" spc="-1" strike="noStrike">
              <a:solidFill>
                <a:srgbClr val="000000"/>
              </a:solidFill>
              <a:latin typeface="Arial"/>
            </a:endParaRPr>
          </a:p>
          <a:p>
            <a:pPr marL="3430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ntegrujeme-li toto napětí pomocí balistického galvanometru nebo elektronického integrátoru, dostáváme </a:t>
            </a:r>
            <a:endParaRPr b="0" lang="en-US" sz="1600" spc="-1" strike="noStrike">
              <a:solidFill>
                <a:srgbClr val="000000"/>
              </a:solidFill>
              <a:latin typeface="Arial"/>
            </a:endParaRPr>
          </a:p>
          <a:p>
            <a:pPr marL="3430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a:t>
            </a:r>
            <a:endParaRPr b="0" lang="en-US" sz="1600" spc="-1" strike="noStrike">
              <a:solidFill>
                <a:srgbClr val="000000"/>
              </a:solidFill>
              <a:latin typeface="Arial"/>
            </a:endParaRPr>
          </a:p>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Napěťový impuls je měřen integrátorem nebo balistickým galvanometrem. Snadno se přesvědčíme, že při vytažení magnetu, jak je to naznačeno na obr() vzniká v cívce měřitelné napětí a příslušný napěťový impuls. </a:t>
            </a:r>
            <a:endParaRPr b="0" lang="en-US" sz="1600" spc="-1" strike="noStrike">
              <a:solidFill>
                <a:srgbClr val="000000"/>
              </a:solidFill>
              <a:latin typeface="Arial"/>
            </a:endParaRPr>
          </a:p>
          <a:p>
            <a:pPr marL="343080" indent="-343080">
              <a:lnSpc>
                <a:spcPct val="125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Uzavřenou plochu můžeme sestavit z jednoduchých cívek, které budou zapojeny do série ve stejném smyslu. (např. z cívek ve tvaru pravidelných trojúhelníků můžeme sestavit pravidelný čtyřstěn, ze čtvercových cívek krychli). Právě druhé  možnosti užil autor. Na obrázku je znázorněna krychle sestávající z šesti do série zapojených cívek , jejichž vývod je připojen k integrátoru.</a:t>
            </a:r>
            <a:endParaRPr b="0" lang="en-US" sz="1600" spc="-1" strike="noStrike">
              <a:solidFill>
                <a:srgbClr val="000000"/>
              </a:solidFill>
              <a:latin typeface="Arial"/>
            </a:endParaRPr>
          </a:p>
        </p:txBody>
      </p:sp>
      <p:sp>
        <p:nvSpPr>
          <p:cNvPr id="5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0" name=""/>
          <p:cNvGraphicFramePr/>
          <p:nvPr/>
        </p:nvGraphicFramePr>
        <p:xfrm>
          <a:off x="2340000" y="1065240"/>
          <a:ext cx="3168720" cy="927000"/>
        </p:xfrm>
        <a:graphic>
          <a:graphicData uri="http://schemas.openxmlformats.org/presentationml/2006/ole">
            <p:oleObj r:id="rId1" spid="">
              <p:embed/>
              <p:pic>
                <p:nvPicPr>
                  <p:cNvPr id="531" name="" descr=""/>
                  <p:cNvPicPr/>
                  <p:nvPr/>
                </p:nvPicPr>
                <p:blipFill>
                  <a:blip r:embed="rId2"/>
                  <a:stretch/>
                </p:blipFill>
                <p:spPr>
                  <a:xfrm>
                    <a:off x="2340000" y="1065240"/>
                    <a:ext cx="3168720" cy="927000"/>
                  </a:xfrm>
                  <a:prstGeom prst="rect">
                    <a:avLst/>
                  </a:prstGeom>
                  <a:ln w="0">
                    <a:noFill/>
                  </a:ln>
                </p:spPr>
              </p:pic>
            </p:oleObj>
          </a:graphicData>
        </a:graphic>
      </p:graphicFrame>
      <p:sp>
        <p:nvSpPr>
          <p:cNvPr id="5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3" name=""/>
          <p:cNvGraphicFramePr/>
          <p:nvPr/>
        </p:nvGraphicFramePr>
        <p:xfrm>
          <a:off x="2987640" y="2698920"/>
          <a:ext cx="1836720" cy="784080"/>
        </p:xfrm>
        <a:graphic>
          <a:graphicData uri="http://schemas.openxmlformats.org/presentationml/2006/ole">
            <p:oleObj r:id="rId3" spid="">
              <p:embed/>
              <p:pic>
                <p:nvPicPr>
                  <p:cNvPr id="534" name="" descr=""/>
                  <p:cNvPicPr/>
                  <p:nvPr/>
                </p:nvPicPr>
                <p:blipFill>
                  <a:blip r:embed="rId4"/>
                  <a:stretch/>
                </p:blipFill>
                <p:spPr>
                  <a:xfrm>
                    <a:off x="2987640" y="2698920"/>
                    <a:ext cx="1836720" cy="78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68360" y="189000"/>
            <a:ext cx="8229600" cy="63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6" name=""/>
          <p:cNvGrpSpPr/>
          <p:nvPr/>
        </p:nvGrpSpPr>
        <p:grpSpPr>
          <a:xfrm>
            <a:off x="1732320" y="3751920"/>
            <a:ext cx="2123280" cy="2135880"/>
            <a:chOff x="1732320" y="3751920"/>
            <a:chExt cx="2123280" cy="2135880"/>
          </a:xfrm>
        </p:grpSpPr>
        <p:sp>
          <p:nvSpPr>
            <p:cNvPr id="537" name=""/>
            <p:cNvSpPr/>
            <p:nvPr/>
          </p:nvSpPr>
          <p:spPr>
            <a:xfrm>
              <a:off x="2709360" y="4330800"/>
              <a:ext cx="1440" cy="94320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2709000" y="3787920"/>
              <a:ext cx="289800" cy="50616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H="1">
              <a:off x="2709360" y="4295160"/>
              <a:ext cx="720" cy="94104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673360" y="4330800"/>
              <a:ext cx="0" cy="90504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1" name=""/>
            <p:cNvGrpSpPr/>
            <p:nvPr/>
          </p:nvGrpSpPr>
          <p:grpSpPr>
            <a:xfrm>
              <a:off x="1732320" y="3751920"/>
              <a:ext cx="2123280" cy="2135880"/>
              <a:chOff x="1732320" y="3751920"/>
              <a:chExt cx="2123280" cy="2135880"/>
            </a:xfrm>
          </p:grpSpPr>
          <p:sp>
            <p:nvSpPr>
              <p:cNvPr id="542" name=""/>
              <p:cNvSpPr/>
              <p:nvPr/>
            </p:nvSpPr>
            <p:spPr>
              <a:xfrm>
                <a:off x="1732320" y="4330440"/>
                <a:ext cx="940680" cy="941760"/>
              </a:xfrm>
              <a:prstGeom prst="rect">
                <a:avLst/>
              </a:prstGeom>
              <a:solidFill>
                <a:srgbClr val="ffffff"/>
              </a:solidFill>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732320" y="3787560"/>
                <a:ext cx="1230480" cy="506880"/>
              </a:xfrm>
              <a:prstGeom prst="parallelogram">
                <a:avLst>
                  <a:gd name="adj" fmla="val 60689"/>
                </a:avLst>
              </a:prstGeom>
              <a:solidFill>
                <a:srgbClr val="ffffff"/>
              </a:solidFill>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2745360" y="4765320"/>
                <a:ext cx="289080" cy="50616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999160" y="3751920"/>
                <a:ext cx="35640" cy="101340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6" name=""/>
              <p:cNvGrpSpPr/>
              <p:nvPr/>
            </p:nvGrpSpPr>
            <p:grpSpPr>
              <a:xfrm>
                <a:off x="2295360" y="4149720"/>
                <a:ext cx="970920" cy="577800"/>
                <a:chOff x="2295360" y="4149720"/>
                <a:chExt cx="970920" cy="577800"/>
              </a:xfrm>
            </p:grpSpPr>
            <p:sp>
              <p:nvSpPr>
                <p:cNvPr id="547" name=""/>
                <p:cNvSpPr/>
                <p:nvPr/>
              </p:nvSpPr>
              <p:spPr>
                <a:xfrm rot="20019000">
                  <a:off x="2274120" y="4367160"/>
                  <a:ext cx="1012680" cy="1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rot="20019000">
                  <a:off x="2321280" y="4567680"/>
                  <a:ext cx="108000" cy="14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rot="20019000">
                  <a:off x="3131280" y="4166280"/>
                  <a:ext cx="108000" cy="1429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
              <p:cNvSpPr/>
              <p:nvPr/>
            </p:nvSpPr>
            <p:spPr>
              <a:xfrm>
                <a:off x="2745720" y="5272560"/>
                <a:ext cx="1109880" cy="615240"/>
              </a:xfrm>
              <a:custGeom>
                <a:avLst/>
                <a:gdLst/>
                <a:ahLst/>
                <a:rect l="l" t="t" r="r" b="b"/>
                <a:pathLst>
                  <a:path w="1748" h="969">
                    <a:moveTo>
                      <a:pt x="0" y="0"/>
                    </a:moveTo>
                    <a:cubicBezTo>
                      <a:pt x="722" y="233"/>
                      <a:pt x="1444" y="466"/>
                      <a:pt x="1596" y="627"/>
                    </a:cubicBezTo>
                    <a:cubicBezTo>
                      <a:pt x="1748" y="788"/>
                      <a:pt x="1035" y="912"/>
                      <a:pt x="912" y="969"/>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673000" y="5235840"/>
                <a:ext cx="634680" cy="616680"/>
              </a:xfrm>
              <a:custGeom>
                <a:avLst/>
                <a:gdLst/>
                <a:ahLst/>
                <a:rect l="l" t="t" r="r" b="b"/>
                <a:pathLst>
                  <a:path w="997" h="969">
                    <a:moveTo>
                      <a:pt x="0" y="0"/>
                    </a:moveTo>
                    <a:cubicBezTo>
                      <a:pt x="413" y="157"/>
                      <a:pt x="827" y="314"/>
                      <a:pt x="912" y="456"/>
                    </a:cubicBezTo>
                    <a:cubicBezTo>
                      <a:pt x="997" y="598"/>
                      <a:pt x="589" y="770"/>
                      <a:pt x="513" y="855"/>
                    </a:cubicBezTo>
                    <a:cubicBezTo>
                      <a:pt x="437" y="940"/>
                      <a:pt x="446" y="954"/>
                      <a:pt x="456" y="969"/>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2" name=""/>
          <p:cNvSpPr/>
          <p:nvPr/>
        </p:nvSpPr>
        <p:spPr>
          <a:xfrm>
            <a:off x="2700360" y="4365720"/>
            <a:ext cx="0" cy="468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0" y="368280"/>
            <a:ext cx="9144000" cy="6300720"/>
          </a:xfrm>
          <a:prstGeom prst="rect">
            <a:avLst/>
          </a:prstGeom>
          <a:noFill/>
          <a:ln w="0">
            <a:noFill/>
          </a:ln>
        </p:spPr>
        <p:txBody>
          <a:bodyPr lIns="90000" rIns="90000" tIns="46800" bIns="46800"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 vytažení magnetu je údaj integrátoru nulový. Pokus můžeme několikrát opakovat s různou výchozí polohou magnetu. Výsledek je stále stejný, což je přesvědčivým důkazem platnosti vztahu 1d. </a:t>
            </a:r>
            <a:endParaRPr b="0" lang="en-US" sz="1800" spc="-1" strike="noStrike">
              <a:solidFill>
                <a:srgbClr val="000000"/>
              </a:solidFill>
              <a:latin typeface="Arial"/>
            </a:endParaRPr>
          </a:p>
        </p:txBody>
      </p:sp>
      <p:sp>
        <p:nvSpPr>
          <p:cNvPr id="554" name=""/>
          <p:cNvSpPr/>
          <p:nvPr/>
        </p:nvSpPr>
        <p:spPr>
          <a:xfrm>
            <a:off x="324000" y="3981600"/>
            <a:ext cx="8820000" cy="457200"/>
          </a:xfrm>
          <a:prstGeom prst="rect">
            <a:avLst/>
          </a:prstGeom>
          <a:solidFill>
            <a:srgbClr val="a8eff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ávěr</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solidFill>
            <a:srgbClr val="a8eff6"/>
          </a:solidFill>
          <a:ln w="0">
            <a:noFill/>
          </a:ln>
        </p:spPr>
        <p:txBody>
          <a:bodyPr lIns="90000" rIns="90000" tIns="46800" bIns="46800" anchor="t">
            <a:normAutofit/>
          </a:bodyPr>
          <a:p>
            <a:pPr marL="343080" indent="-343080">
              <a:lnSpc>
                <a:spcPct val="13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Výše popsané pokusy  usnadňují pochopení fyzikálního obsahu Maxwellových rovnic.  Matematické operace s Maxwellovými rovnicemi jsou samozřejmě také potřebné, ale mohou vést k formalismu při jejich chápání. Experimentální náročnost pokusů není tak velká, aby převážila  jejich didaktický přínos. Jak již bylo řečeno, lze provedení některých z těchto pokusů přenést do seminářů, které by neměly být pouhým matematickým procvičováním příkladů akademického charakteru, často nemajících nic společného s realitou. </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9640" y="475920"/>
            <a:ext cx="8229600" cy="611964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Ampérův zákon můžeme formulovat tak, že cirkulace vektoru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je rovna celkovému proudu, který protíná integrační dráhu (c).</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endParaRPr b="0" lang="en-US" sz="18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 name=""/>
          <p:cNvGraphicFramePr/>
          <p:nvPr/>
        </p:nvGraphicFramePr>
        <p:xfrm>
          <a:off x="7740720" y="404640"/>
          <a:ext cx="323640" cy="358920"/>
        </p:xfrm>
        <a:graphic>
          <a:graphicData uri="http://schemas.openxmlformats.org/presentationml/2006/ole">
            <p:oleObj r:id="rId1" spid="">
              <p:embed/>
              <p:pic>
                <p:nvPicPr>
                  <p:cNvPr id="57" name="" descr=""/>
                  <p:cNvPicPr/>
                  <p:nvPr/>
                </p:nvPicPr>
                <p:blipFill>
                  <a:blip r:embed="rId2"/>
                  <a:stretch/>
                </p:blipFill>
                <p:spPr>
                  <a:xfrm>
                    <a:off x="7740720" y="404640"/>
                    <a:ext cx="323640" cy="358920"/>
                  </a:xfrm>
                  <a:prstGeom prst="rect">
                    <a:avLst/>
                  </a:prstGeom>
                  <a:ln w="0">
                    <a:noFill/>
                  </a:ln>
                </p:spPr>
              </p:pic>
            </p:oleObj>
          </a:graphicData>
        </a:graphic>
      </p:graphicFrame>
      <p:grpSp>
        <p:nvGrpSpPr>
          <p:cNvPr id="58" name=""/>
          <p:cNvGrpSpPr/>
          <p:nvPr/>
        </p:nvGrpSpPr>
        <p:grpSpPr>
          <a:xfrm>
            <a:off x="2052720" y="2349720"/>
            <a:ext cx="2352600" cy="2714400"/>
            <a:chOff x="2052720" y="2349720"/>
            <a:chExt cx="2352600" cy="2714400"/>
          </a:xfrm>
        </p:grpSpPr>
        <p:sp>
          <p:nvSpPr>
            <p:cNvPr id="59" name=""/>
            <p:cNvSpPr/>
            <p:nvPr/>
          </p:nvSpPr>
          <p:spPr>
            <a:xfrm rot="20879400">
              <a:off x="2342880" y="2964600"/>
              <a:ext cx="1592280" cy="614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25800" y="2892240"/>
              <a:ext cx="741960" cy="1701360"/>
            </a:xfrm>
            <a:custGeom>
              <a:avLst/>
              <a:gdLst/>
              <a:ahLst/>
              <a:rect l="l" t="t" r="r" b="b"/>
              <a:pathLst>
                <a:path w="1169" h="2679">
                  <a:moveTo>
                    <a:pt x="0" y="0"/>
                  </a:moveTo>
                  <a:cubicBezTo>
                    <a:pt x="441" y="346"/>
                    <a:pt x="883" y="693"/>
                    <a:pt x="1026" y="1140"/>
                  </a:cubicBezTo>
                  <a:cubicBezTo>
                    <a:pt x="1169" y="1587"/>
                    <a:pt x="883" y="2413"/>
                    <a:pt x="855" y="2679"/>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849400" y="2530440"/>
              <a:ext cx="217080" cy="2533680"/>
            </a:xfrm>
            <a:custGeom>
              <a:avLst/>
              <a:gdLst/>
              <a:ahLst/>
              <a:rect l="l" t="t" r="r" b="b"/>
              <a:pathLst>
                <a:path w="342" h="3990">
                  <a:moveTo>
                    <a:pt x="0" y="0"/>
                  </a:moveTo>
                  <a:cubicBezTo>
                    <a:pt x="85" y="1263"/>
                    <a:pt x="171" y="2527"/>
                    <a:pt x="228" y="3192"/>
                  </a:cubicBezTo>
                  <a:cubicBezTo>
                    <a:pt x="285" y="3857"/>
                    <a:pt x="313" y="3923"/>
                    <a:pt x="342" y="399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542400" y="2457720"/>
              <a:ext cx="248400" cy="1773720"/>
            </a:xfrm>
            <a:custGeom>
              <a:avLst/>
              <a:gdLst/>
              <a:ahLst/>
              <a:rect l="l" t="t" r="r" b="b"/>
              <a:pathLst>
                <a:path w="390" h="2793">
                  <a:moveTo>
                    <a:pt x="162" y="0"/>
                  </a:moveTo>
                  <a:cubicBezTo>
                    <a:pt x="143" y="71"/>
                    <a:pt x="124" y="143"/>
                    <a:pt x="105" y="285"/>
                  </a:cubicBezTo>
                  <a:cubicBezTo>
                    <a:pt x="86" y="427"/>
                    <a:pt x="0" y="437"/>
                    <a:pt x="48" y="855"/>
                  </a:cubicBezTo>
                  <a:cubicBezTo>
                    <a:pt x="96" y="1273"/>
                    <a:pt x="333" y="2480"/>
                    <a:pt x="390" y="2793"/>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2668320" y="4412520"/>
              <a:ext cx="36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2849040" y="2675160"/>
              <a:ext cx="3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3610080" y="25304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102480" y="4376520"/>
              <a:ext cx="50724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a:t>
              </a:r>
              <a:r>
                <a:rPr b="0" i="1"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67" name=""/>
            <p:cNvSpPr/>
            <p:nvPr/>
          </p:nvSpPr>
          <p:spPr>
            <a:xfrm>
              <a:off x="2052720" y="2349720"/>
              <a:ext cx="324360" cy="39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a:t>
              </a:r>
              <a:r>
                <a:rPr b="0" i="1"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68" name=""/>
            <p:cNvSpPr/>
            <p:nvPr/>
          </p:nvSpPr>
          <p:spPr>
            <a:xfrm>
              <a:off x="3899160" y="3797280"/>
              <a:ext cx="50616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a:t>
              </a:r>
              <a:r>
                <a:rPr b="0" i="1" lang="en-US" sz="1200" spc="-1" strike="noStrike" baseline="-25000">
                  <a:solidFill>
                    <a:srgbClr val="000000"/>
                  </a:solidFill>
                  <a:latin typeface="Arial"/>
                </a:rPr>
                <a:t>3</a:t>
              </a:r>
              <a:endParaRPr b="0" lang="en-US" sz="1200" spc="-1" strike="noStrike">
                <a:solidFill>
                  <a:srgbClr val="000000"/>
                </a:solidFill>
                <a:latin typeface="Arial"/>
              </a:endParaRPr>
            </a:p>
          </p:txBody>
        </p:sp>
      </p:grpSp>
      <p:sp>
        <p:nvSpPr>
          <p:cNvPr id="69" name=""/>
          <p:cNvSpPr/>
          <p:nvPr/>
        </p:nvSpPr>
        <p:spPr>
          <a:xfrm>
            <a:off x="4140360" y="29973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Máme-li ověřit vztah (2), je nutno především experimentálně určit číselnou hodnotu integrálu  na levé straně tohoto vztahu. K tomuto účelu se výborně hodí Rogowskiho-Chattokův potenciálomet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1" lang="cs-CZ" sz="1800" spc="-1" strike="noStrike">
                <a:solidFill>
                  <a:srgbClr val="333399"/>
                </a:solidFill>
                <a:latin typeface="Arial"/>
              </a:rPr>
              <a:t>Rogowskiho – Chattokův potenciálometr je pružná trubice (např. hadice z umělé hmoty), která je opatřena dvěma vrstvami vinutí tak, že vývody jsou ve středu trubice (obr.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
          <p:cNvGrpSpPr/>
          <p:nvPr/>
        </p:nvGrpSpPr>
        <p:grpSpPr>
          <a:xfrm>
            <a:off x="2771640" y="3573360"/>
            <a:ext cx="2705400" cy="1486080"/>
            <a:chOff x="2771640" y="3573360"/>
            <a:chExt cx="2705400" cy="1486080"/>
          </a:xfrm>
        </p:grpSpPr>
        <p:sp>
          <p:nvSpPr>
            <p:cNvPr id="72" name=""/>
            <p:cNvSpPr/>
            <p:nvPr/>
          </p:nvSpPr>
          <p:spPr>
            <a:xfrm>
              <a:off x="2771640" y="3573360"/>
              <a:ext cx="2514960" cy="91440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85760" y="3687480"/>
              <a:ext cx="2286360" cy="685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14920" y="4373640"/>
              <a:ext cx="647640" cy="685800"/>
            </a:xfrm>
            <a:custGeom>
              <a:avLst/>
              <a:gdLst/>
              <a:ahLst/>
              <a:rect l="l" t="t" r="r" b="b"/>
              <a:pathLst>
                <a:path w="1020" h="1080">
                  <a:moveTo>
                    <a:pt x="0" y="0"/>
                  </a:moveTo>
                  <a:cubicBezTo>
                    <a:pt x="390" y="270"/>
                    <a:pt x="780" y="540"/>
                    <a:pt x="900" y="720"/>
                  </a:cubicBezTo>
                  <a:cubicBezTo>
                    <a:pt x="1020" y="900"/>
                    <a:pt x="870" y="990"/>
                    <a:pt x="720" y="10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29400" y="4373640"/>
              <a:ext cx="647640" cy="685800"/>
            </a:xfrm>
            <a:custGeom>
              <a:avLst/>
              <a:gdLst/>
              <a:ahLst/>
              <a:rect l="l" t="t" r="r" b="b"/>
              <a:pathLst>
                <a:path w="1020" h="1080">
                  <a:moveTo>
                    <a:pt x="0" y="0"/>
                  </a:moveTo>
                  <a:cubicBezTo>
                    <a:pt x="390" y="270"/>
                    <a:pt x="780" y="540"/>
                    <a:pt x="900" y="720"/>
                  </a:cubicBezTo>
                  <a:cubicBezTo>
                    <a:pt x="1020" y="900"/>
                    <a:pt x="870" y="990"/>
                    <a:pt x="720" y="10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029120" y="3573360"/>
              <a:ext cx="1141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14640" y="3573360"/>
              <a:ext cx="114120" cy="114120"/>
            </a:xfrm>
            <a:prstGeom prst="ellipse">
              <a:avLst/>
            </a:prstGeom>
            <a:solidFill>
              <a:srgbClr val="ff66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ři změně magnetického toku v závitech potenciálometru se indukuje na jeho výstupu napěťový impuls, který může být měřen buď pomocí balistického galvanometru nebo elektronického integrátoru.  Představme si, že máme dlouhý vodič, kterým protéká proud I. Kolem tohoto vodiče obepneme potenciálometr, který na koncích spojíme dřevěným kolíčkem (obr.2).</a:t>
            </a: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
          <p:cNvGrpSpPr/>
          <p:nvPr/>
        </p:nvGrpSpPr>
        <p:grpSpPr>
          <a:xfrm>
            <a:off x="2050920" y="3846600"/>
            <a:ext cx="2705400" cy="3011040"/>
            <a:chOff x="2050920" y="3846600"/>
            <a:chExt cx="2705400" cy="3011040"/>
          </a:xfrm>
        </p:grpSpPr>
        <p:sp>
          <p:nvSpPr>
            <p:cNvPr id="80" name=""/>
            <p:cNvSpPr/>
            <p:nvPr/>
          </p:nvSpPr>
          <p:spPr>
            <a:xfrm flipH="1">
              <a:off x="3100320" y="3846600"/>
              <a:ext cx="615240" cy="206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2050920" y="4722120"/>
              <a:ext cx="2705400" cy="2135520"/>
              <a:chOff x="2050920" y="4722120"/>
              <a:chExt cx="2705400" cy="2135520"/>
            </a:xfrm>
          </p:grpSpPr>
          <p:grpSp>
            <p:nvGrpSpPr>
              <p:cNvPr id="82" name=""/>
              <p:cNvGrpSpPr/>
              <p:nvPr/>
            </p:nvGrpSpPr>
            <p:grpSpPr>
              <a:xfrm>
                <a:off x="2050920" y="5120640"/>
                <a:ext cx="2705400" cy="1485720"/>
                <a:chOff x="2050920" y="5120640"/>
                <a:chExt cx="2705400" cy="1485720"/>
              </a:xfrm>
            </p:grpSpPr>
            <p:sp>
              <p:nvSpPr>
                <p:cNvPr id="83" name=""/>
                <p:cNvSpPr/>
                <p:nvPr/>
              </p:nvSpPr>
              <p:spPr>
                <a:xfrm>
                  <a:off x="2050920" y="5120640"/>
                  <a:ext cx="2514960" cy="91440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165040" y="5234760"/>
                  <a:ext cx="2286360" cy="685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994200" y="5920560"/>
                  <a:ext cx="647640" cy="685800"/>
                </a:xfrm>
                <a:custGeom>
                  <a:avLst/>
                  <a:gdLst/>
                  <a:ahLst/>
                  <a:rect l="l" t="t" r="r" b="b"/>
                  <a:pathLst>
                    <a:path w="1020" h="1080">
                      <a:moveTo>
                        <a:pt x="0" y="0"/>
                      </a:moveTo>
                      <a:cubicBezTo>
                        <a:pt x="390" y="270"/>
                        <a:pt x="780" y="540"/>
                        <a:pt x="900" y="720"/>
                      </a:cubicBezTo>
                      <a:cubicBezTo>
                        <a:pt x="1020" y="900"/>
                        <a:pt x="870" y="990"/>
                        <a:pt x="720" y="10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108680" y="5920560"/>
                  <a:ext cx="647640" cy="685800"/>
                </a:xfrm>
                <a:custGeom>
                  <a:avLst/>
                  <a:gdLst/>
                  <a:ahLst/>
                  <a:rect l="l" t="t" r="r" b="b"/>
                  <a:pathLst>
                    <a:path w="1020" h="1080">
                      <a:moveTo>
                        <a:pt x="0" y="0"/>
                      </a:moveTo>
                      <a:cubicBezTo>
                        <a:pt x="390" y="270"/>
                        <a:pt x="780" y="540"/>
                        <a:pt x="900" y="720"/>
                      </a:cubicBezTo>
                      <a:cubicBezTo>
                        <a:pt x="1020" y="900"/>
                        <a:pt x="870" y="990"/>
                        <a:pt x="720" y="10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flipV="1">
                <a:off x="3426480" y="4722120"/>
                <a:ext cx="36000" cy="144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10520" y="6018120"/>
                <a:ext cx="253080" cy="83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9" name=""/>
          <p:cNvSpPr/>
          <p:nvPr/>
        </p:nvSpPr>
        <p:spPr>
          <a:xfrm flipH="1">
            <a:off x="3059280" y="5084640"/>
            <a:ext cx="288720" cy="8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1" lang="cs-CZ" sz="1800" spc="-1" strike="noStrike">
                <a:solidFill>
                  <a:srgbClr val="333399"/>
                </a:solidFill>
                <a:latin typeface="Arial"/>
              </a:rPr>
              <a:t>Zákon celkového proudu napíšeme v obvyklé formě (2). Integrační křivku (c) ztotožníme s osovou křivkou potencilálometru.                      </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Intenzitu magnetického pole vyjádříme ve tvaru                                      </a:t>
            </a:r>
            <a:endParaRPr b="0" lang="en-US" sz="18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takže ve vztahu (2) bude </a:t>
            </a:r>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59280" y="1824120"/>
          <a:ext cx="1657080" cy="679320"/>
        </p:xfrm>
        <a:graphic>
          <a:graphicData uri="http://schemas.openxmlformats.org/presentationml/2006/ole">
            <p:oleObj r:id="rId1" spid="">
              <p:embed/>
              <p:pic>
                <p:nvPicPr>
                  <p:cNvPr id="93" name="" descr=""/>
                  <p:cNvPicPr/>
                  <p:nvPr/>
                </p:nvPicPr>
                <p:blipFill>
                  <a:blip r:embed="rId2"/>
                  <a:stretch/>
                </p:blipFill>
                <p:spPr>
                  <a:xfrm>
                    <a:off x="3059280" y="1824120"/>
                    <a:ext cx="1657080" cy="679320"/>
                  </a:xfrm>
                  <a:prstGeom prst="rect">
                    <a:avLst/>
                  </a:prstGeom>
                  <a:ln w="0">
                    <a:noFill/>
                  </a:ln>
                </p:spPr>
              </p:pic>
            </p:oleObj>
          </a:graphicData>
        </a:graphic>
      </p:graphicFrame>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6" name=""/>
          <p:cNvGraphicFramePr/>
          <p:nvPr/>
        </p:nvGraphicFramePr>
        <p:xfrm>
          <a:off x="2627280" y="3524400"/>
          <a:ext cx="2305080" cy="1197000"/>
        </p:xfrm>
        <a:graphic>
          <a:graphicData uri="http://schemas.openxmlformats.org/presentationml/2006/ole">
            <p:oleObj r:id="rId3" spid="">
              <p:embed/>
              <p:pic>
                <p:nvPicPr>
                  <p:cNvPr id="97" name="" descr=""/>
                  <p:cNvPicPr/>
                  <p:nvPr/>
                </p:nvPicPr>
                <p:blipFill>
                  <a:blip r:embed="rId4"/>
                  <a:stretch/>
                </p:blipFill>
                <p:spPr>
                  <a:xfrm>
                    <a:off x="2627280" y="3524400"/>
                    <a:ext cx="2305080" cy="11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Rozšíříme integrand plochou průřezu potenciálometru S a počtem závitů připadajících na jednotku dálky potenciálometru </a:t>
            </a:r>
            <a:r>
              <a:rPr b="1" i="1" lang="cs-CZ" sz="1800" spc="-1" strike="noStrike">
                <a:solidFill>
                  <a:srgbClr val="333399"/>
                </a:solidFill>
                <a:latin typeface="Arial"/>
              </a:rPr>
              <a:t>n</a:t>
            </a:r>
            <a:r>
              <a:rPr b="1" lang="cs-CZ" sz="1800" spc="-1" strike="noStrike">
                <a:solidFill>
                  <a:srgbClr val="333399"/>
                </a:solidFill>
                <a:latin typeface="Arial"/>
              </a:rPr>
              <a:t> Zároveň výraz těmito veličinami vydělíme. Skalární součin                                 ,         kde úhel alfa svírají vektory          a      , přičemž předpokládáme, že vektor       leží na integrační cestě (c) a tedy na ose potenciálometru. </a:t>
            </a: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Výsledkem těchto úprav je</a:t>
            </a:r>
            <a:endParaRPr b="0" lang="en-US" sz="1800" spc="-1" strike="noStrike">
              <a:solidFill>
                <a:srgbClr val="000000"/>
              </a:solidFill>
              <a:latin typeface="Arial"/>
            </a:endParaRPr>
          </a:p>
          <a:p>
            <a:pPr marL="343080" indent="-343080">
              <a:lnSpc>
                <a:spcPct val="125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endParaRPr b="0" lang="en-US" sz="1800" spc="-1" strike="noStrike">
              <a:solidFill>
                <a:srgbClr val="000000"/>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6372360" y="1038240"/>
          <a:ext cx="1800000" cy="406440"/>
        </p:xfrm>
        <a:graphic>
          <a:graphicData uri="http://schemas.openxmlformats.org/presentationml/2006/ole">
            <p:oleObj r:id="rId1" spid="">
              <p:embed/>
              <p:pic>
                <p:nvPicPr>
                  <p:cNvPr id="101" name="" descr=""/>
                  <p:cNvPicPr/>
                  <p:nvPr/>
                </p:nvPicPr>
                <p:blipFill>
                  <a:blip r:embed="rId2"/>
                  <a:stretch/>
                </p:blipFill>
                <p:spPr>
                  <a:xfrm>
                    <a:off x="6372360" y="1038240"/>
                    <a:ext cx="1800000" cy="406440"/>
                  </a:xfrm>
                  <a:prstGeom prst="rect">
                    <a:avLst/>
                  </a:prstGeom>
                  <a:ln w="0">
                    <a:noFill/>
                  </a:ln>
                </p:spPr>
              </p:pic>
            </p:oleObj>
          </a:graphicData>
        </a:graphic>
      </p:graphicFrame>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3" name=""/>
          <p:cNvGraphicFramePr/>
          <p:nvPr/>
        </p:nvGraphicFramePr>
        <p:xfrm>
          <a:off x="3995640" y="1413000"/>
          <a:ext cx="262080" cy="342720"/>
        </p:xfrm>
        <a:graphic>
          <a:graphicData uri="http://schemas.openxmlformats.org/presentationml/2006/ole">
            <p:oleObj r:id="rId3" spid="">
              <p:embed/>
              <p:pic>
                <p:nvPicPr>
                  <p:cNvPr id="104" name="" descr=""/>
                  <p:cNvPicPr/>
                  <p:nvPr/>
                </p:nvPicPr>
                <p:blipFill>
                  <a:blip r:embed="rId4"/>
                  <a:stretch/>
                </p:blipFill>
                <p:spPr>
                  <a:xfrm>
                    <a:off x="3995640" y="1413000"/>
                    <a:ext cx="262080" cy="342720"/>
                  </a:xfrm>
                  <a:prstGeom prst="rect">
                    <a:avLst/>
                  </a:prstGeom>
                  <a:ln w="0">
                    <a:noFill/>
                  </a:ln>
                </p:spPr>
              </p:pic>
            </p:oleObj>
          </a:graphicData>
        </a:graphic>
      </p:graphicFrame>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4643280" y="1413000"/>
          <a:ext cx="331920" cy="363240"/>
        </p:xfrm>
        <a:graphic>
          <a:graphicData uri="http://schemas.openxmlformats.org/presentationml/2006/ole">
            <p:oleObj r:id="rId5" spid="">
              <p:embed/>
              <p:pic>
                <p:nvPicPr>
                  <p:cNvPr id="107" name="" descr=""/>
                  <p:cNvPicPr/>
                  <p:nvPr/>
                </p:nvPicPr>
                <p:blipFill>
                  <a:blip r:embed="rId6"/>
                  <a:stretch/>
                </p:blipFill>
                <p:spPr>
                  <a:xfrm>
                    <a:off x="4643280" y="1413000"/>
                    <a:ext cx="331920" cy="363240"/>
                  </a:xfrm>
                  <a:prstGeom prst="rect">
                    <a:avLst/>
                  </a:prstGeom>
                  <a:ln w="0">
                    <a:noFill/>
                  </a:ln>
                </p:spPr>
              </p:pic>
            </p:oleObj>
          </a:graphicData>
        </a:graphic>
      </p:graphicFrame>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1619280" y="1700280"/>
          <a:ext cx="328680" cy="360360"/>
        </p:xfrm>
        <a:graphic>
          <a:graphicData uri="http://schemas.openxmlformats.org/presentationml/2006/ole">
            <p:oleObj r:id="rId7" spid="">
              <p:embed/>
              <p:pic>
                <p:nvPicPr>
                  <p:cNvPr id="110" name="" descr=""/>
                  <p:cNvPicPr/>
                  <p:nvPr/>
                </p:nvPicPr>
                <p:blipFill>
                  <a:blip r:embed="rId8"/>
                  <a:stretch/>
                </p:blipFill>
                <p:spPr>
                  <a:xfrm>
                    <a:off x="1619280" y="1700280"/>
                    <a:ext cx="328680" cy="360360"/>
                  </a:xfrm>
                  <a:prstGeom prst="rect">
                    <a:avLst/>
                  </a:prstGeom>
                  <a:ln w="0">
                    <a:noFill/>
                  </a:ln>
                </p:spPr>
              </p:pic>
            </p:oleObj>
          </a:graphicData>
        </a:graphic>
      </p:graphicFrame>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2268360" y="2852640"/>
          <a:ext cx="4465800" cy="1108080"/>
        </p:xfrm>
        <a:graphic>
          <a:graphicData uri="http://schemas.openxmlformats.org/presentationml/2006/ole">
            <p:oleObj r:id="rId9" spid="">
              <p:embed/>
              <p:pic>
                <p:nvPicPr>
                  <p:cNvPr id="113" name="" descr=""/>
                  <p:cNvPicPr/>
                  <p:nvPr/>
                </p:nvPicPr>
                <p:blipFill>
                  <a:blip r:embed="rId10"/>
                  <a:stretch/>
                </p:blipFill>
                <p:spPr>
                  <a:xfrm>
                    <a:off x="2268360" y="2852640"/>
                    <a:ext cx="4465800" cy="1108080"/>
                  </a:xfrm>
                  <a:prstGeom prst="rect">
                    <a:avLst/>
                  </a:prstGeom>
                  <a:ln w="0">
                    <a:noFill/>
                  </a:ln>
                </p:spPr>
              </p:pic>
            </p:oleObj>
          </a:graphicData>
        </a:graphic>
      </p:graphicFrame>
      <p:sp>
        <p:nvSpPr>
          <p:cNvPr id="114" name=""/>
          <p:cNvSpPr/>
          <p:nvPr/>
        </p:nvSpPr>
        <p:spPr>
          <a:xfrm>
            <a:off x="395280" y="443700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    </a:t>
            </a:r>
            <a:r>
              <a:rPr b="1" lang="cs-CZ" sz="1800" spc="-1" strike="noStrike">
                <a:solidFill>
                  <a:srgbClr val="333399"/>
                </a:solidFill>
                <a:latin typeface="Arial"/>
              </a:rPr>
              <a:t>je účinný magnetický tok celým potenciálometrem</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 name=""/>
          <p:cNvGraphicFramePr/>
          <p:nvPr/>
        </p:nvGraphicFramePr>
        <p:xfrm>
          <a:off x="1258920" y="4437000"/>
          <a:ext cx="606240" cy="428760"/>
        </p:xfrm>
        <a:graphic>
          <a:graphicData uri="http://schemas.openxmlformats.org/presentationml/2006/ole">
            <p:oleObj r:id="rId11" spid="">
              <p:embed/>
              <p:pic>
                <p:nvPicPr>
                  <p:cNvPr id="117" name="" descr=""/>
                  <p:cNvPicPr/>
                  <p:nvPr/>
                </p:nvPicPr>
                <p:blipFill>
                  <a:blip r:embed="rId12"/>
                  <a:stretch/>
                </p:blipFill>
                <p:spPr>
                  <a:xfrm>
                    <a:off x="1258920" y="4437000"/>
                    <a:ext cx="60624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0:43:33Z</dcterms:created>
  <dc:creator>Václav Havel</dc:creator>
  <dc:description/>
  <dc:language>en-US</dc:language>
  <cp:lastModifiedBy>Václav Havel</cp:lastModifiedBy>
  <dcterms:modified xsi:type="dcterms:W3CDTF">2005-04-26T18:08:24Z</dcterms:modified>
  <cp:revision>52</cp:revision>
  <dc:subject/>
  <dc:title>Možnosti experimentálního ověření Maxwellových rovnic</dc:title>
</cp:coreProperties>
</file>