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AB4-B1A1-4066-B8C4-CBB83081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353-C7F2-44EE-818E-36F38730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DDE-580E-4D81-903D-B03C033C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822-5197-4E23-8101-E171DA35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5A15-FCE1-4768-80EC-5698CC6F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94DA-1AA2-46A0-8267-E6A8C695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EBA-DA79-4EFA-B982-0DD4DCC4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B2B8-11E8-48AA-8D00-F2DC7CB1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C32B-9904-4D2B-87EC-3901B7D2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7B3-A862-4C96-B685-2EDB894B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462-EE23-458E-9456-7674E771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EA5-ACA8-42D0-85DD-E2AD0A3A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3584-A92E-48BA-8A44-6447DDEA5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d uhlíkové žárovky k moderním zdrojům světla (spolu s fyzikou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sef Hubeň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zita Hradec Králov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istorické žárov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.A.Edison, komerční provedení 188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32000" y="2622600"/>
            <a:ext cx="6119640" cy="326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B546-42B4-4B44-AFB2-C865D3238B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5280" y="131760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822240"/>
                <a:tab algn="l" pos="274320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y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ěrný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ivotnost (hod.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výkon( lm.W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822240"/>
                <a:tab algn="l" pos="274320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hlíková, vakuov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7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2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822240"/>
                <a:tab algn="l" pos="274320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smiová, vakuov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822240"/>
                <a:tab algn="l" pos="274320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822240"/>
                <a:tab algn="l" pos="274320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olframová, vakuová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822240"/>
                <a:tab algn="l" pos="274320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mé vlák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0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6 - 8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822240"/>
                <a:tab algn="l" pos="274320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olframová, s plyne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822240"/>
                <a:tab algn="l" pos="274320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irální vlák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1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9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822240"/>
                <a:tab algn="l" pos="274320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olframová, s plyne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822240"/>
                <a:tab algn="l" pos="274320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vojitá spirál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3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12 - 14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822240"/>
                <a:tab algn="l" pos="274320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alogenov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20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řehled vývoje žárov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BBB-BE59-4380-A5B0-60DD8D4DE0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echnologie wolfr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sování prášku do tyčí 10x10x400 mm, (+Si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Al, K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ékání ve vodíkové atmosféře v elektrické peci 1000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ékání ve vodíkové atmosféře v elektrické peci 1300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inování průchodem el.proudu, ve vodíku, 3100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vání na kruhový průřez průměr 3 mm, délka 4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tahování přes diamantové průvlaky, minimální průměr 0,01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víjení drátku na molybdenové jádro, až 30000 ot/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íhání, stříhání, odleptání jádra v HN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BA9-CD87-4737-A1A8-2CACD0441917}" type="slidenum">
              <a:t>1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alogenový cykl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Žárovka plněna argonem + příměs jód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zapnutí jód sublimu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lněné atomy wolframu tvoří plynný jod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zhasnutí jodid kondenzuje na vlákn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zapnutí se jodid rozkládá a wolfram zůstane na vlákn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2F1-4BD6-41B9-A7AD-4ED811E7A5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Times New Roman"/>
              </a:rPr>
              <a:t>Parametry halogen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plota vlákna 2100 až 3050 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 (bod tání 3380 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ňka – tavený křemen, pracovní teplota 1000 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klad: H4 příkon 60 a 55 W napětí 12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větelný tok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600 a 1000 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větlí pruh 13,5 m do 2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625-2A0A-4C2D-8338-34E0001FFC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Konstrukce zářiv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55640" y="1857240"/>
            <a:ext cx="7129080" cy="2651400"/>
            <a:chOff x="755640" y="1857240"/>
            <a:chExt cx="7129080" cy="2651400"/>
          </a:xfrm>
        </p:grpSpPr>
        <p:sp>
          <p:nvSpPr>
            <p:cNvPr id="82" name=""/>
            <p:cNvSpPr/>
            <p:nvPr/>
          </p:nvSpPr>
          <p:spPr>
            <a:xfrm flipH="1">
              <a:off x="2158560" y="3301920"/>
              <a:ext cx="49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05240" y="2649600"/>
              <a:ext cx="5046480" cy="830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2606760" y="2747880"/>
              <a:ext cx="172440" cy="553680"/>
              <a:chOff x="2606760" y="2747880"/>
              <a:chExt cx="172440" cy="553680"/>
            </a:xfrm>
          </p:grpSpPr>
          <p:sp>
            <p:nvSpPr>
              <p:cNvPr id="85" name=""/>
              <p:cNvSpPr/>
              <p:nvPr/>
            </p:nvSpPr>
            <p:spPr>
              <a:xfrm>
                <a:off x="2620800" y="274788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606760" y="2806920"/>
                <a:ext cx="14400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20800" y="288612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2606760" y="296568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620800" y="302472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2620800" y="310392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635200" y="3163320"/>
                <a:ext cx="14400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620800" y="324252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7248960" y="2747880"/>
              <a:ext cx="172440" cy="553680"/>
              <a:chOff x="7248960" y="2747880"/>
              <a:chExt cx="172440" cy="553680"/>
            </a:xfrm>
          </p:grpSpPr>
          <p:sp>
            <p:nvSpPr>
              <p:cNvPr id="94" name=""/>
              <p:cNvSpPr/>
              <p:nvPr/>
            </p:nvSpPr>
            <p:spPr>
              <a:xfrm flipH="1">
                <a:off x="7263360" y="274788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77400" y="2806920"/>
                <a:ext cx="14400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7263360" y="288612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277400" y="296568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263360" y="302472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63360" y="310392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7248960" y="3163320"/>
                <a:ext cx="14400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263360" y="324252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 flipH="1">
              <a:off x="2128320" y="2747880"/>
              <a:ext cx="49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03640" y="2649600"/>
              <a:ext cx="215640" cy="830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392600" y="2766960"/>
              <a:ext cx="49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7392600" y="3301920"/>
              <a:ext cx="49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7320" y="2649600"/>
              <a:ext cx="217440" cy="830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22680" y="2687760"/>
              <a:ext cx="457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93880" y="3421080"/>
              <a:ext cx="4568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52880" y="3855960"/>
              <a:ext cx="183672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žhavené elektrody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+ oxidy Ba,Sr,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5640" y="2727360"/>
              <a:ext cx="99864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kontak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68800" y="2806560"/>
              <a:ext cx="104148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lumino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4360" y="1857240"/>
              <a:ext cx="196668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argon + páry rtu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400     +    0,6  P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77080" y="2906640"/>
              <a:ext cx="91800" cy="125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623960" y="2827440"/>
              <a:ext cx="476280" cy="177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09640" y="3005280"/>
              <a:ext cx="390600" cy="276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951360" y="3164040"/>
              <a:ext cx="231840" cy="217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693520" y="3024000"/>
              <a:ext cx="1605240" cy="911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745240" y="3024000"/>
              <a:ext cx="1474560" cy="890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628960" y="2233080"/>
              <a:ext cx="390600" cy="731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116000" y="4797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íkon 40 W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světlo 2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+ infra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rvené záření 2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+ odveden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teplo 55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7C3-183C-4362-B170-87909C0D12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Zapalovací obvod zářiv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209600" y="1695600"/>
            <a:ext cx="6747120" cy="3749400"/>
            <a:chOff x="1209600" y="1695600"/>
            <a:chExt cx="6747120" cy="3749400"/>
          </a:xfrm>
        </p:grpSpPr>
        <p:sp>
          <p:nvSpPr>
            <p:cNvPr id="123" name=""/>
            <p:cNvSpPr/>
            <p:nvPr/>
          </p:nvSpPr>
          <p:spPr>
            <a:xfrm>
              <a:off x="3057480" y="3795840"/>
              <a:ext cx="4546800" cy="49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3255480" y="3887640"/>
              <a:ext cx="117720" cy="273240"/>
              <a:chOff x="3255480" y="3887640"/>
              <a:chExt cx="117720" cy="273240"/>
            </a:xfrm>
          </p:grpSpPr>
          <p:sp>
            <p:nvSpPr>
              <p:cNvPr id="125" name=""/>
              <p:cNvSpPr/>
              <p:nvPr/>
            </p:nvSpPr>
            <p:spPr>
              <a:xfrm>
                <a:off x="3262680" y="3887640"/>
                <a:ext cx="109800" cy="40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3255480" y="3930480"/>
                <a:ext cx="10908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0960" y="3979440"/>
                <a:ext cx="102240" cy="40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270240" y="4021560"/>
                <a:ext cx="10296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262680" y="4112280"/>
                <a:ext cx="10296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70240" y="4062240"/>
                <a:ext cx="10296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260120" y="3921120"/>
              <a:ext cx="117000" cy="272880"/>
              <a:chOff x="7260120" y="3921120"/>
              <a:chExt cx="117000" cy="272880"/>
            </a:xfrm>
          </p:grpSpPr>
          <p:sp>
            <p:nvSpPr>
              <p:cNvPr id="132" name=""/>
              <p:cNvSpPr/>
              <p:nvPr/>
            </p:nvSpPr>
            <p:spPr>
              <a:xfrm flipH="1">
                <a:off x="7261200" y="3921120"/>
                <a:ext cx="109440" cy="40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68400" y="3963960"/>
                <a:ext cx="10872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7260120" y="4012560"/>
                <a:ext cx="101880" cy="40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260480" y="4054680"/>
                <a:ext cx="10260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268400" y="4145400"/>
                <a:ext cx="10260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7260120" y="4095720"/>
                <a:ext cx="10260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flipH="1">
              <a:off x="2852640" y="3879720"/>
              <a:ext cx="42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7354800" y="3913200"/>
              <a:ext cx="42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857680" y="30416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57680" y="3052800"/>
              <a:ext cx="165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510080" y="2577600"/>
              <a:ext cx="0" cy="4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10080" y="2589120"/>
              <a:ext cx="6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35400" y="2589120"/>
              <a:ext cx="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34000" y="2457360"/>
              <a:ext cx="5544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05200" y="2413080"/>
              <a:ext cx="14616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05200" y="2689200"/>
              <a:ext cx="157320" cy="6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637160" y="2158560"/>
              <a:ext cx="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637160" y="2070000"/>
              <a:ext cx="0" cy="231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959360" y="2047680"/>
              <a:ext cx="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86480" y="1916280"/>
              <a:ext cx="272880" cy="309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05200" y="2092320"/>
              <a:ext cx="235080" cy="18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68760" y="1795320"/>
              <a:ext cx="439920" cy="57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02080" y="1695600"/>
              <a:ext cx="811440" cy="1058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97560" y="2556000"/>
              <a:ext cx="6804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30920" y="2544840"/>
              <a:ext cx="6804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45120" y="3052800"/>
              <a:ext cx="263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785000" y="3052800"/>
              <a:ext cx="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75680" y="418932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857320" y="416736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67040" y="4162320"/>
              <a:ext cx="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80320" y="4194000"/>
              <a:ext cx="0" cy="10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87680" y="4657680"/>
              <a:ext cx="558720" cy="115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02120" y="4575240"/>
              <a:ext cx="727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30440" y="4608360"/>
              <a:ext cx="87480" cy="19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265120" y="525456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79520" y="4443480"/>
              <a:ext cx="58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32120" y="5203800"/>
              <a:ext cx="6984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2120" y="4410000"/>
              <a:ext cx="6984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78000" y="4361040"/>
              <a:ext cx="146160" cy="164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78000" y="5154480"/>
              <a:ext cx="146160" cy="165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126040" y="5022720"/>
              <a:ext cx="609480" cy="422280"/>
              <a:chOff x="5126040" y="5022720"/>
              <a:chExt cx="609480" cy="422280"/>
            </a:xfrm>
          </p:grpSpPr>
          <p:sp>
            <p:nvSpPr>
              <p:cNvPr id="173" name=""/>
              <p:cNvSpPr/>
              <p:nvPr/>
            </p:nvSpPr>
            <p:spPr>
              <a:xfrm>
                <a:off x="5168160" y="5081040"/>
                <a:ext cx="133920" cy="338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302440" y="5081040"/>
                <a:ext cx="133920" cy="338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437800" y="5073480"/>
                <a:ext cx="133920" cy="338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572080" y="5073480"/>
                <a:ext cx="133920" cy="338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126040" y="5254200"/>
                <a:ext cx="609480" cy="190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25040" y="5022720"/>
                <a:ext cx="403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2867040" y="524664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5697360" y="5237280"/>
              <a:ext cx="208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48240" y="1744560"/>
              <a:ext cx="879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ime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00360" y="2208240"/>
              <a:ext cx="7779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tarté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78480" y="2357280"/>
              <a:ext cx="2478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odrušovací kondenzá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89240" y="4425840"/>
              <a:ext cx="2714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kompenzační</a:t>
              </a:r>
              <a:r>
                <a:rPr b="0" i="1" lang="cs-CZ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kondenzá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29480" y="4807080"/>
              <a:ext cx="1012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lumiv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09600" y="4626000"/>
              <a:ext cx="13636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30 V / 50 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4832280" y="1927080"/>
              <a:ext cx="67464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258920" y="558972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(start) 1A,  I(provoz) 0,15 až 0,67 A   Teplota elektrod 700 </a:t>
            </a:r>
            <a:r>
              <a:rPr b="0" lang="cs-CZ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469-6278-414C-961E-089E94CE68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arametry zářiv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kon 40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ivotnost 8000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élka 12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ůměr 26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pětí 103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ud 0,43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větelný tok 2600 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5191-7F7F-4F1A-BA08-28A5B54426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Úsporné zářivky - předřadní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50920" y="1484280"/>
            <a:ext cx="8281440" cy="4249440"/>
            <a:chOff x="250920" y="1484280"/>
            <a:chExt cx="8281440" cy="4249440"/>
          </a:xfrm>
        </p:grpSpPr>
        <p:grpSp>
          <p:nvGrpSpPr>
            <p:cNvPr id="193" name=""/>
            <p:cNvGrpSpPr/>
            <p:nvPr/>
          </p:nvGrpSpPr>
          <p:grpSpPr>
            <a:xfrm>
              <a:off x="250920" y="1484280"/>
              <a:ext cx="8281440" cy="4249440"/>
              <a:chOff x="250920" y="1484280"/>
              <a:chExt cx="8281440" cy="4249440"/>
            </a:xfrm>
          </p:grpSpPr>
          <p:sp>
            <p:nvSpPr>
              <p:cNvPr id="194" name=""/>
              <p:cNvSpPr/>
              <p:nvPr/>
            </p:nvSpPr>
            <p:spPr>
              <a:xfrm>
                <a:off x="3564720" y="1887480"/>
                <a:ext cx="0" cy="70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49560" y="5188320"/>
                <a:ext cx="475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60720" y="4505400"/>
                <a:ext cx="211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87800" y="4394160"/>
                <a:ext cx="890640" cy="921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0920" y="4436640"/>
                <a:ext cx="122400" cy="12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74320" y="5135400"/>
                <a:ext cx="122400" cy="12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2840" y="4467960"/>
                <a:ext cx="190800" cy="190080"/>
              </a:xfrm>
              <a:custGeom>
                <a:avLst/>
                <a:gdLst/>
                <a:ahLst/>
                <a:rect l="l" t="t" r="r" b="b"/>
                <a:pathLst>
                  <a:path w="313" h="194">
                    <a:moveTo>
                      <a:pt x="0" y="113"/>
                    </a:moveTo>
                    <a:cubicBezTo>
                      <a:pt x="29" y="56"/>
                      <a:pt x="59" y="0"/>
                      <a:pt x="88" y="0"/>
                    </a:cubicBezTo>
                    <a:cubicBezTo>
                      <a:pt x="117" y="0"/>
                      <a:pt x="152" y="82"/>
                      <a:pt x="175" y="113"/>
                    </a:cubicBezTo>
                    <a:cubicBezTo>
                      <a:pt x="198" y="144"/>
                      <a:pt x="202" y="194"/>
                      <a:pt x="225" y="188"/>
                    </a:cubicBezTo>
                    <a:cubicBezTo>
                      <a:pt x="248" y="182"/>
                      <a:pt x="280" y="128"/>
                      <a:pt x="313" y="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84640" y="5059800"/>
                <a:ext cx="190440" cy="190440"/>
              </a:xfrm>
              <a:custGeom>
                <a:avLst/>
                <a:gdLst/>
                <a:ahLst/>
                <a:rect l="l" t="t" r="r" b="b"/>
                <a:pathLst>
                  <a:path w="313" h="194">
                    <a:moveTo>
                      <a:pt x="0" y="113"/>
                    </a:moveTo>
                    <a:cubicBezTo>
                      <a:pt x="29" y="56"/>
                      <a:pt x="59" y="0"/>
                      <a:pt x="88" y="0"/>
                    </a:cubicBezTo>
                    <a:cubicBezTo>
                      <a:pt x="117" y="0"/>
                      <a:pt x="152" y="82"/>
                      <a:pt x="175" y="113"/>
                    </a:cubicBezTo>
                    <a:cubicBezTo>
                      <a:pt x="198" y="144"/>
                      <a:pt x="202" y="194"/>
                      <a:pt x="225" y="188"/>
                    </a:cubicBezTo>
                    <a:cubicBezTo>
                      <a:pt x="248" y="182"/>
                      <a:pt x="280" y="128"/>
                      <a:pt x="313" y="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1151280" y="4429440"/>
                <a:ext cx="720" cy="24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34640" y="4554360"/>
                <a:ext cx="23796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045080" y="5106960"/>
                <a:ext cx="23796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21360" y="5119560"/>
                <a:ext cx="451440" cy="159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27240" y="4505400"/>
                <a:ext cx="0" cy="6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913040" y="4812480"/>
                <a:ext cx="427680" cy="849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305800" y="4763160"/>
                <a:ext cx="58680" cy="18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865520" y="4750560"/>
                <a:ext cx="70920" cy="171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37520" y="4799520"/>
                <a:ext cx="367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319120" y="4421880"/>
                <a:ext cx="451440" cy="159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68760" y="4492440"/>
                <a:ext cx="24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3029760" y="1863000"/>
                <a:ext cx="0" cy="333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2745000" y="4701240"/>
                <a:ext cx="522360" cy="195840"/>
                <a:chOff x="2745000" y="4701240"/>
                <a:chExt cx="522360" cy="1958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815920" y="4774680"/>
                  <a:ext cx="427680" cy="73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745000" y="4713840"/>
                  <a:ext cx="82440" cy="18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196440" y="4701240"/>
                  <a:ext cx="70920" cy="18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3029760" y="1887480"/>
                <a:ext cx="428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016520" y="1887480"/>
                <a:ext cx="0" cy="330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3897000" y="3103560"/>
                <a:ext cx="558720" cy="578160"/>
                <a:chOff x="3897000" y="3103560"/>
                <a:chExt cx="558720" cy="5781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897000" y="3103560"/>
                  <a:ext cx="558720" cy="57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300920" y="3238920"/>
                  <a:ext cx="0" cy="307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 flipV="1">
                  <a:off x="4027320" y="3128040"/>
                  <a:ext cx="261720" cy="20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>
                  <a:off x="4027320" y="3410640"/>
                  <a:ext cx="261720" cy="22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 rot="16200000">
                <a:off x="3798360" y="2189880"/>
                <a:ext cx="466920" cy="154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6200000">
                <a:off x="3776760" y="4612680"/>
                <a:ext cx="466920" cy="154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528720" y="4013280"/>
                <a:ext cx="49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564720" y="4013280"/>
                <a:ext cx="0" cy="11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3293640" y="4371840"/>
                <a:ext cx="522360" cy="195840"/>
                <a:chOff x="3293640" y="4371840"/>
                <a:chExt cx="522360" cy="1958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364560" y="4445280"/>
                  <a:ext cx="427680" cy="73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293640" y="4384440"/>
                  <a:ext cx="82440" cy="18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745080" y="4371840"/>
                  <a:ext cx="70920" cy="18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3292560" y="2073960"/>
                <a:ext cx="522360" cy="195840"/>
                <a:chOff x="3292560" y="2073960"/>
                <a:chExt cx="522360" cy="1958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3363480" y="2147400"/>
                  <a:ext cx="427680" cy="73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292560" y="2086560"/>
                  <a:ext cx="82440" cy="18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744000" y="2073960"/>
                  <a:ext cx="70920" cy="18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3564720" y="2599200"/>
                <a:ext cx="254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89760" y="3386160"/>
                <a:ext cx="36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37440" y="2710080"/>
                <a:ext cx="214200" cy="171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39240" y="2722680"/>
                <a:ext cx="225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4645440" y="2599920"/>
                <a:ext cx="0" cy="45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34280" y="3056400"/>
                <a:ext cx="214200" cy="171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4434840" y="3070440"/>
                <a:ext cx="214200" cy="171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4645440" y="3214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4443480" y="3054240"/>
                <a:ext cx="36900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467240" y="3238920"/>
                <a:ext cx="36792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302000" y="1887480"/>
                <a:ext cx="0" cy="108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301280" y="2968920"/>
                <a:ext cx="34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6200000">
                <a:off x="4084920" y="2179800"/>
                <a:ext cx="466920" cy="154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6200000">
                <a:off x="4431600" y="3655080"/>
                <a:ext cx="466920" cy="154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4716720" y="4074480"/>
                <a:ext cx="404280" cy="270720"/>
                <a:chOff x="4716720" y="4074480"/>
                <a:chExt cx="404280" cy="27072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752360" y="407448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872960" y="407628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3560" y="407844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716720" y="4209840"/>
                  <a:ext cx="404280" cy="135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5230080" y="4064400"/>
                <a:ext cx="404280" cy="270720"/>
                <a:chOff x="5230080" y="4064400"/>
                <a:chExt cx="404280" cy="2707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5265720" y="406440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386320" y="406620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506920" y="406836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230080" y="4199760"/>
                  <a:ext cx="404280" cy="135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754600" y="4052880"/>
                <a:ext cx="403920" cy="270720"/>
                <a:chOff x="5754600" y="4052880"/>
                <a:chExt cx="403920" cy="27072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790240" y="405288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910840" y="405468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031440" y="405684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754600" y="4188240"/>
                  <a:ext cx="403920" cy="135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4658040" y="3939840"/>
                <a:ext cx="0" cy="2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658040" y="4185360"/>
                <a:ext cx="8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09480" y="4197960"/>
                <a:ext cx="0" cy="99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191920" y="4185360"/>
                <a:ext cx="7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204520" y="2599560"/>
                <a:ext cx="0" cy="158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248880" y="5167440"/>
                <a:ext cx="11041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6298200" y="3228120"/>
                <a:ext cx="558720" cy="578160"/>
                <a:chOff x="6298200" y="3228120"/>
                <a:chExt cx="558720" cy="5781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298200" y="3228120"/>
                  <a:ext cx="558720" cy="57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702120" y="3363480"/>
                  <a:ext cx="0" cy="307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 flipV="1">
                  <a:off x="6428520" y="3252600"/>
                  <a:ext cx="261720" cy="20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6428520" y="3535200"/>
                  <a:ext cx="261720" cy="22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5691240" y="4160880"/>
                <a:ext cx="9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5703480" y="2599560"/>
                <a:ext cx="0" cy="156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6528960" y="5074200"/>
                <a:ext cx="404280" cy="270720"/>
                <a:chOff x="6528960" y="5074200"/>
                <a:chExt cx="404280" cy="2707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564600" y="507420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685200" y="507600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805800" y="507816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528960" y="5209560"/>
                  <a:ext cx="404280" cy="135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4" name=""/>
              <p:cNvSpPr/>
              <p:nvPr/>
            </p:nvSpPr>
            <p:spPr>
              <a:xfrm>
                <a:off x="5608800" y="4173480"/>
                <a:ext cx="0" cy="36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619960" y="4516920"/>
                <a:ext cx="131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6926400" y="3508560"/>
                <a:ext cx="0" cy="10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688800" y="3508920"/>
                <a:ext cx="24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682600" y="4435200"/>
                <a:ext cx="451440" cy="159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155280" y="4160880"/>
                <a:ext cx="12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73720" y="4160880"/>
                <a:ext cx="0" cy="103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6082560" y="3755520"/>
                <a:ext cx="35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6106680" y="2587320"/>
                <a:ext cx="0" cy="116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200000">
                <a:off x="5869800" y="3067200"/>
                <a:ext cx="466920" cy="154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6451920" y="1887120"/>
                <a:ext cx="0" cy="13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570720" y="4983840"/>
                <a:ext cx="296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270920" y="2230920"/>
                <a:ext cx="309240" cy="2556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7318440" y="1874880"/>
                <a:ext cx="720" cy="45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7499520" y="1876320"/>
                <a:ext cx="0" cy="46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7366680" y="4664520"/>
                <a:ext cx="0" cy="50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508880" y="1887480"/>
                <a:ext cx="546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497720" y="4676760"/>
                <a:ext cx="0" cy="49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520400" y="5168880"/>
                <a:ext cx="53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055360" y="1887480"/>
                <a:ext cx="0" cy="32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769880" y="2956320"/>
                <a:ext cx="285480" cy="1032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7693200" y="1622520"/>
                <a:ext cx="189360" cy="540360"/>
                <a:chOff x="7693200" y="1622520"/>
                <a:chExt cx="189360" cy="540360"/>
              </a:xfrm>
            </p:grpSpPr>
            <p:sp>
              <p:nvSpPr>
                <p:cNvPr id="306" name=""/>
                <p:cNvSpPr/>
                <p:nvPr/>
              </p:nvSpPr>
              <p:spPr>
                <a:xfrm rot="5400000">
                  <a:off x="7554960" y="1881720"/>
                  <a:ext cx="442440" cy="70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5400000">
                  <a:off x="7738920" y="1576440"/>
                  <a:ext cx="85320" cy="177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5400000">
                  <a:off x="7756560" y="2036880"/>
                  <a:ext cx="73440" cy="178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 rot="16200000">
                <a:off x="7544520" y="3263400"/>
                <a:ext cx="466920" cy="154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7797600" y="3636720"/>
                <a:ext cx="522360" cy="195840"/>
                <a:chOff x="7797600" y="3636720"/>
                <a:chExt cx="522360" cy="1958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7868520" y="3710160"/>
                  <a:ext cx="427680" cy="73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797600" y="3649320"/>
                  <a:ext cx="82440" cy="18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8249040" y="3636720"/>
                  <a:ext cx="70920" cy="18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4800240" y="3988800"/>
                <a:ext cx="1282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092320" y="446796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82240" y="5142960"/>
                <a:ext cx="8352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96640" y="443340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83680" y="5148000"/>
                <a:ext cx="8352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17560" y="185040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970800" y="183960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257360" y="185436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10520" y="255096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612320" y="292212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19880" y="184140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41320" y="514296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57760" y="257760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172120" y="256680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020440" y="291996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83400" y="255312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71880" y="395532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020440" y="3951360"/>
                <a:ext cx="8316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6990120" y="4913280"/>
                <a:ext cx="189360" cy="540360"/>
                <a:chOff x="6990120" y="4913280"/>
                <a:chExt cx="189360" cy="540360"/>
              </a:xfrm>
            </p:grpSpPr>
            <p:sp>
              <p:nvSpPr>
                <p:cNvPr id="333" name=""/>
                <p:cNvSpPr/>
                <p:nvPr/>
              </p:nvSpPr>
              <p:spPr>
                <a:xfrm rot="5400000">
                  <a:off x="6851880" y="5172480"/>
                  <a:ext cx="442440" cy="70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rot="5400000">
                  <a:off x="7035840" y="4867200"/>
                  <a:ext cx="85320" cy="177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5400000">
                  <a:off x="7053480" y="5327640"/>
                  <a:ext cx="73440" cy="178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7330680" y="2329200"/>
                <a:ext cx="17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54080" y="4676760"/>
                <a:ext cx="14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982320" y="513324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80040" y="534024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354040" y="3953520"/>
                <a:ext cx="3690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89560" y="224568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601800" y="461808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219560" y="370836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409280" y="203688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645440" y="3326400"/>
                <a:ext cx="0" cy="18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587840" y="333936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40560" y="319176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9680" y="464472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092440" y="3105360"/>
                <a:ext cx="3690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581840" y="455616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520360" y="470340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90600" y="1951200"/>
                <a:ext cx="3690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245040" y="405288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403760" y="148428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714720" y="5256720"/>
                <a:ext cx="3690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163720" y="380628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76320" y="426096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94080" y="424908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144480" y="380628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60280" y="458064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T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3399840" y="2971080"/>
              <a:ext cx="3686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71440" y="2773800"/>
              <a:ext cx="369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20240" y="3412800"/>
              <a:ext cx="3686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059280" y="5589720"/>
            <a:ext cx="30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rekvence 25 – 50 k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2CC0-FDA8-4443-BEC6-617203F0FF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ysokotlaké rtuťové výboj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692360" y="1484280"/>
            <a:ext cx="6192360" cy="4105080"/>
            <a:chOff x="1692360" y="1484280"/>
            <a:chExt cx="6192360" cy="4105080"/>
          </a:xfrm>
        </p:grpSpPr>
        <p:grpSp>
          <p:nvGrpSpPr>
            <p:cNvPr id="367" name=""/>
            <p:cNvGrpSpPr/>
            <p:nvPr/>
          </p:nvGrpSpPr>
          <p:grpSpPr>
            <a:xfrm>
              <a:off x="1692360" y="2204640"/>
              <a:ext cx="6192360" cy="2561040"/>
              <a:chOff x="1692360" y="2204640"/>
              <a:chExt cx="6192360" cy="2561040"/>
            </a:xfrm>
          </p:grpSpPr>
          <p:sp>
            <p:nvSpPr>
              <p:cNvPr id="368" name=""/>
              <p:cNvSpPr/>
              <p:nvPr/>
            </p:nvSpPr>
            <p:spPr>
              <a:xfrm>
                <a:off x="7163640" y="2886480"/>
                <a:ext cx="0" cy="118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92360" y="3349800"/>
                <a:ext cx="122400" cy="282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52680" y="2204640"/>
                <a:ext cx="4532040" cy="2561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181960" y="2757960"/>
                <a:ext cx="1524240" cy="14799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5400000">
                <a:off x="1249920" y="3293640"/>
                <a:ext cx="1454400" cy="407880"/>
              </a:xfrm>
              <a:custGeom>
                <a:avLst/>
                <a:gdLst>
                  <a:gd name="textAreaLeft" fmla="*/ 319680 w 1454400"/>
                  <a:gd name="textAreaRight" fmla="*/ 1134720 w 1454400"/>
                  <a:gd name="textAreaTop" fmla="*/ 89640 h 407880"/>
                  <a:gd name="textAreaBottom" fmla="*/ 318240 h 40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46720" y="3478680"/>
                <a:ext cx="577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93360" y="2757960"/>
                <a:ext cx="176760" cy="147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89240" y="2757960"/>
                <a:ext cx="176760" cy="147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71440" y="2757960"/>
                <a:ext cx="176760" cy="147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549520" y="2757960"/>
                <a:ext cx="176760" cy="147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754000" y="2757960"/>
                <a:ext cx="176400" cy="147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359080" y="2757960"/>
                <a:ext cx="176760" cy="147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181960" y="3015360"/>
                <a:ext cx="136080" cy="119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81880" y="3156840"/>
                <a:ext cx="2490480" cy="643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536720" y="3156840"/>
                <a:ext cx="231120" cy="643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054920" y="3156840"/>
                <a:ext cx="231120" cy="643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177320" y="2899440"/>
                <a:ext cx="44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63640" y="4057920"/>
                <a:ext cx="48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4645800" y="2319840"/>
                <a:ext cx="0" cy="82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645800" y="3813120"/>
                <a:ext cx="0" cy="82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69120" y="3478680"/>
                <a:ext cx="318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6836760" y="3478680"/>
                <a:ext cx="68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517520" y="3478680"/>
                <a:ext cx="0" cy="48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3611160" y="3954960"/>
                <a:ext cx="390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638520" y="3839040"/>
                <a:ext cx="54360" cy="2188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3883680" y="3684600"/>
                <a:ext cx="0" cy="27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883680" y="3684600"/>
                <a:ext cx="119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978720" y="3633120"/>
                <a:ext cx="421560" cy="102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828960" y="3903480"/>
                <a:ext cx="108720" cy="102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1773720" y="2063160"/>
              <a:ext cx="129276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800" spc="-1" strike="noStrike">
                  <a:solidFill>
                    <a:srgbClr val="000000"/>
                  </a:solidFill>
                  <a:latin typeface="Times New Roman"/>
                </a:rPr>
                <a:t>patice E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800" spc="-1" strike="noStrike">
                  <a:solidFill>
                    <a:srgbClr val="000000"/>
                  </a:solidFill>
                  <a:latin typeface="Times New Roman"/>
                </a:rPr>
                <a:t>nebo E 2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16160" y="1484280"/>
              <a:ext cx="10616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osník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56800" y="4676040"/>
              <a:ext cx="8028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dp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468680" y="4997520"/>
              <a:ext cx="110232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omocná elektro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84200" y="4843440"/>
              <a:ext cx="19461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lavní elektro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951360" y="3774600"/>
              <a:ext cx="258480" cy="978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4890240" y="3697920"/>
              <a:ext cx="54360" cy="1389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5148720" y="3517200"/>
              <a:ext cx="1197720" cy="1377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510240" y="3556080"/>
              <a:ext cx="285480" cy="1235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699800" y="1754280"/>
              <a:ext cx="1279080" cy="836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24400" y="1857240"/>
              <a:ext cx="1034280" cy="965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826920" y="558972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lak 300 Pa vzroste na 900 000 Pa   Teplota 5200 </a:t>
            </a:r>
            <a:r>
              <a:rPr b="0" lang="cs-CZ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974-72FC-4636-BB50-08CF30AB66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692360" y="1557360"/>
                <a:ext cx="565128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c</m:t>
                                    </m:r>
                                  </m:num>
                                  <m:den>
                                    <m:r>
                                      <m:t xml:space="preserve">λ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pektrální hustota vyzařo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76360" y="4797360"/>
                <a:ext cx="19479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d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956120" y="4869000"/>
                <a:ext cx="168444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φ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500720" y="41497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zita vyzařová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23D-DB2B-480E-8FF8-ED997876E6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Times New Roman"/>
              </a:rPr>
              <a:t>Parametry výbojky H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71640" y="2275200"/>
            <a:ext cx="691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256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íkon 400W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tráty na elektrodách         30 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256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zářivé ztráty ve výboji 178 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256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 záření                          73 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256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červené záření            60 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256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itelné záření                  59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256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palné napět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180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256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u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3,25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256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pětí na výboj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135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256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mp. kapacit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20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256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ětelný to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2500 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A76-C835-4E1D-9A55-98A4B9C921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Times New Roman"/>
              </a:rPr>
              <a:t>Zapojení výbojky H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124000" y="1700280"/>
            <a:ext cx="5095800" cy="4262400"/>
            <a:chOff x="2124000" y="1700280"/>
            <a:chExt cx="5095800" cy="4262400"/>
          </a:xfrm>
        </p:grpSpPr>
        <p:grpSp>
          <p:nvGrpSpPr>
            <p:cNvPr id="414" name=""/>
            <p:cNvGrpSpPr/>
            <p:nvPr/>
          </p:nvGrpSpPr>
          <p:grpSpPr>
            <a:xfrm>
              <a:off x="2362320" y="2317680"/>
              <a:ext cx="3543120" cy="3645000"/>
              <a:chOff x="2362320" y="2317680"/>
              <a:chExt cx="3543120" cy="3645000"/>
            </a:xfrm>
          </p:grpSpPr>
          <p:sp>
            <p:nvSpPr>
              <p:cNvPr id="415" name=""/>
              <p:cNvSpPr/>
              <p:nvPr/>
            </p:nvSpPr>
            <p:spPr>
              <a:xfrm>
                <a:off x="2454120" y="2616120"/>
                <a:ext cx="3213360" cy="324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362320" y="2557440"/>
                <a:ext cx="164880" cy="340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35400" y="5743440"/>
                <a:ext cx="201600" cy="219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435400" y="2516040"/>
                <a:ext cx="201600" cy="219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019320" y="2616120"/>
                <a:ext cx="0" cy="32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673360" y="4051440"/>
                <a:ext cx="693720" cy="118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00280" y="3970440"/>
                <a:ext cx="109440" cy="2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311640" y="3970440"/>
                <a:ext cx="91800" cy="258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30960" y="3313080"/>
                <a:ext cx="474480" cy="2111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667480" y="3313080"/>
                <a:ext cx="0" cy="23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5667480" y="5165280"/>
                <a:ext cx="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594400" y="5086440"/>
                <a:ext cx="128520" cy="139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594400" y="3452760"/>
                <a:ext cx="128520" cy="139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965320" y="5803920"/>
                <a:ext cx="127080" cy="13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946240" y="2536920"/>
                <a:ext cx="128880" cy="139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3586320" y="2436840"/>
                <a:ext cx="1241280" cy="437760"/>
                <a:chOff x="3586320" y="2436840"/>
                <a:chExt cx="1241280" cy="43776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3604320" y="2436840"/>
                  <a:ext cx="291960" cy="39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914640" y="2436840"/>
                  <a:ext cx="291960" cy="39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206960" y="2436840"/>
                  <a:ext cx="291960" cy="39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498920" y="2436840"/>
                  <a:ext cx="291960" cy="39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586320" y="2635560"/>
                  <a:ext cx="1241280" cy="239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3403440" y="2616120"/>
                <a:ext cx="20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6120" y="2637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4791240" y="2616120"/>
                <a:ext cx="164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32120" y="2317680"/>
                <a:ext cx="91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4516560" y="1700280"/>
              <a:ext cx="1352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lumivk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959440" y="4051440"/>
              <a:ext cx="126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ýbojk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110040" y="4270320"/>
              <a:ext cx="177156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Kompenzačn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kondenzá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24000" y="2835360"/>
              <a:ext cx="603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33440" y="5226120"/>
              <a:ext cx="567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28E-043A-424B-BCAF-5C6DB735DF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Times New Roman"/>
              </a:rPr>
              <a:t>Halogenidové výboj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1431720" cy="432108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2916360" y="1628640"/>
            <a:ext cx="511164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lyn:  argon, páry rt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íměsi: jodidy ceru, samaria, cesia, sodíku, scandia, thalia, dysprosia, in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íklad: Philips, typ CDM-TD/942  150 W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arevná teplota 4200 K,   12000 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2987640" y="371628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780000" y="5661000"/>
            <a:ext cx="2952720" cy="246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300             400            500            600          700 (n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111-4327-4F43-A914-616E74BB54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odíkové vysokotlaké výboj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6048360" cy="1862280"/>
          </a:xfrm>
          <a:prstGeom prst="rect">
            <a:avLst/>
          </a:prstGeom>
          <a:ln w="0">
            <a:noFill/>
          </a:ln>
        </p:spPr>
      </p:pic>
      <p:grpSp>
        <p:nvGrpSpPr>
          <p:cNvPr id="452" name=""/>
          <p:cNvGrpSpPr/>
          <p:nvPr/>
        </p:nvGrpSpPr>
        <p:grpSpPr>
          <a:xfrm>
            <a:off x="684360" y="3716280"/>
            <a:ext cx="6408360" cy="2787840"/>
            <a:chOff x="684360" y="3716280"/>
            <a:chExt cx="6408360" cy="2787840"/>
          </a:xfrm>
        </p:grpSpPr>
        <p:grpSp>
          <p:nvGrpSpPr>
            <p:cNvPr id="453" name=""/>
            <p:cNvGrpSpPr/>
            <p:nvPr/>
          </p:nvGrpSpPr>
          <p:grpSpPr>
            <a:xfrm>
              <a:off x="1833480" y="3720960"/>
              <a:ext cx="5065200" cy="2418840"/>
              <a:chOff x="1833480" y="3720960"/>
              <a:chExt cx="5065200" cy="2418840"/>
            </a:xfrm>
          </p:grpSpPr>
          <p:sp>
            <p:nvSpPr>
              <p:cNvPr id="454" name=""/>
              <p:cNvSpPr/>
              <p:nvPr/>
            </p:nvSpPr>
            <p:spPr>
              <a:xfrm>
                <a:off x="2074320" y="5920200"/>
                <a:ext cx="482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074320" y="3720960"/>
                <a:ext cx="0" cy="219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315520" y="3720960"/>
                <a:ext cx="0" cy="21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55708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79828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03912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28068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21880" y="3720960"/>
                <a:ext cx="0" cy="21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76308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00428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24548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48668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727880" y="3720960"/>
                <a:ext cx="0" cy="21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96908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21064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315520" y="5920200"/>
                <a:ext cx="0" cy="219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521880" y="5920200"/>
                <a:ext cx="0" cy="219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727880" y="5920200"/>
                <a:ext cx="0" cy="219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934240" y="3720960"/>
                <a:ext cx="0" cy="21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45184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69268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7544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1664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934240" y="5920200"/>
                <a:ext cx="0" cy="219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074320" y="5700240"/>
                <a:ext cx="458316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074320" y="5480280"/>
                <a:ext cx="458316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074320" y="5260320"/>
                <a:ext cx="458316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074320" y="5040360"/>
                <a:ext cx="458316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33480" y="4820400"/>
                <a:ext cx="482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074320" y="4600800"/>
                <a:ext cx="458316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074320" y="4380480"/>
                <a:ext cx="458316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074320" y="4160880"/>
                <a:ext cx="458316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074320" y="3940920"/>
                <a:ext cx="458316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074320" y="3720960"/>
                <a:ext cx="458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33480" y="4820400"/>
                <a:ext cx="240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33480" y="3720960"/>
                <a:ext cx="240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684360" y="3797280"/>
              <a:ext cx="9810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lativní intenzi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64720" y="6004800"/>
              <a:ext cx="8280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cs-CZ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(n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98440" y="6179040"/>
              <a:ext cx="47124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21720" y="6179040"/>
              <a:ext cx="47124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06480" y="6179040"/>
              <a:ext cx="47124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17160" y="6167160"/>
              <a:ext cx="47124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01640" y="4819680"/>
              <a:ext cx="47124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01640" y="3716280"/>
              <a:ext cx="47124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,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41880" y="4557960"/>
              <a:ext cx="1052280" cy="1310040"/>
            </a:xfrm>
            <a:custGeom>
              <a:avLst/>
              <a:gdLst/>
              <a:ahLst/>
              <a:rect l="l" t="t" r="r" b="b"/>
              <a:pathLst>
                <a:path w="1352" h="1692">
                  <a:moveTo>
                    <a:pt x="0" y="1673"/>
                  </a:moveTo>
                  <a:cubicBezTo>
                    <a:pt x="108" y="1690"/>
                    <a:pt x="82" y="1692"/>
                    <a:pt x="225" y="1673"/>
                  </a:cubicBezTo>
                  <a:cubicBezTo>
                    <a:pt x="267" y="1667"/>
                    <a:pt x="308" y="1656"/>
                    <a:pt x="350" y="1648"/>
                  </a:cubicBezTo>
                  <a:cubicBezTo>
                    <a:pt x="376" y="1643"/>
                    <a:pt x="426" y="1623"/>
                    <a:pt x="426" y="1623"/>
                  </a:cubicBezTo>
                  <a:cubicBezTo>
                    <a:pt x="510" y="1566"/>
                    <a:pt x="574" y="1486"/>
                    <a:pt x="638" y="1410"/>
                  </a:cubicBezTo>
                  <a:cubicBezTo>
                    <a:pt x="650" y="1396"/>
                    <a:pt x="666" y="1387"/>
                    <a:pt x="676" y="1372"/>
                  </a:cubicBezTo>
                  <a:cubicBezTo>
                    <a:pt x="699" y="1340"/>
                    <a:pt x="716" y="1304"/>
                    <a:pt x="739" y="1272"/>
                  </a:cubicBezTo>
                  <a:cubicBezTo>
                    <a:pt x="756" y="1247"/>
                    <a:pt x="789" y="1197"/>
                    <a:pt x="789" y="1197"/>
                  </a:cubicBezTo>
                  <a:cubicBezTo>
                    <a:pt x="809" y="1135"/>
                    <a:pt x="826" y="1069"/>
                    <a:pt x="851" y="1009"/>
                  </a:cubicBezTo>
                  <a:cubicBezTo>
                    <a:pt x="876" y="950"/>
                    <a:pt x="931" y="904"/>
                    <a:pt x="951" y="846"/>
                  </a:cubicBezTo>
                  <a:cubicBezTo>
                    <a:pt x="967" y="800"/>
                    <a:pt x="995" y="764"/>
                    <a:pt x="1014" y="721"/>
                  </a:cubicBezTo>
                  <a:cubicBezTo>
                    <a:pt x="1036" y="670"/>
                    <a:pt x="1051" y="612"/>
                    <a:pt x="1064" y="558"/>
                  </a:cubicBezTo>
                  <a:cubicBezTo>
                    <a:pt x="1073" y="451"/>
                    <a:pt x="1070" y="381"/>
                    <a:pt x="1127" y="295"/>
                  </a:cubicBezTo>
                  <a:cubicBezTo>
                    <a:pt x="1146" y="239"/>
                    <a:pt x="1169" y="114"/>
                    <a:pt x="1214" y="70"/>
                  </a:cubicBezTo>
                  <a:cubicBezTo>
                    <a:pt x="1225" y="59"/>
                    <a:pt x="1240" y="55"/>
                    <a:pt x="1252" y="45"/>
                  </a:cubicBezTo>
                  <a:cubicBezTo>
                    <a:pt x="1266" y="34"/>
                    <a:pt x="1273" y="13"/>
                    <a:pt x="1290" y="7"/>
                  </a:cubicBezTo>
                  <a:cubicBezTo>
                    <a:pt x="1309" y="0"/>
                    <a:pt x="1331" y="7"/>
                    <a:pt x="1352" y="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05320" y="4564080"/>
              <a:ext cx="148680" cy="1289160"/>
            </a:xfrm>
            <a:custGeom>
              <a:avLst/>
              <a:gdLst/>
              <a:ahLst/>
              <a:rect l="l" t="t" r="r" b="b"/>
              <a:pathLst>
                <a:path w="175" h="1665">
                  <a:moveTo>
                    <a:pt x="0" y="0"/>
                  </a:moveTo>
                  <a:cubicBezTo>
                    <a:pt x="8" y="93"/>
                    <a:pt x="10" y="155"/>
                    <a:pt x="38" y="238"/>
                  </a:cubicBezTo>
                  <a:cubicBezTo>
                    <a:pt x="48" y="347"/>
                    <a:pt x="63" y="454"/>
                    <a:pt x="75" y="563"/>
                  </a:cubicBezTo>
                  <a:cubicBezTo>
                    <a:pt x="83" y="879"/>
                    <a:pt x="96" y="1187"/>
                    <a:pt x="113" y="1502"/>
                  </a:cubicBezTo>
                  <a:cubicBezTo>
                    <a:pt x="115" y="1546"/>
                    <a:pt x="111" y="1665"/>
                    <a:pt x="175" y="166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02680" y="3806640"/>
              <a:ext cx="1754640" cy="2066040"/>
            </a:xfrm>
            <a:custGeom>
              <a:avLst/>
              <a:gdLst/>
              <a:ahLst/>
              <a:rect l="l" t="t" r="r" b="b"/>
              <a:pathLst>
                <a:path w="2066" h="2668">
                  <a:moveTo>
                    <a:pt x="0" y="26"/>
                  </a:moveTo>
                  <a:cubicBezTo>
                    <a:pt x="73" y="0"/>
                    <a:pt x="55" y="19"/>
                    <a:pt x="100" y="63"/>
                  </a:cubicBezTo>
                  <a:cubicBezTo>
                    <a:pt x="111" y="74"/>
                    <a:pt x="125" y="80"/>
                    <a:pt x="138" y="88"/>
                  </a:cubicBezTo>
                  <a:cubicBezTo>
                    <a:pt x="193" y="263"/>
                    <a:pt x="238" y="438"/>
                    <a:pt x="288" y="614"/>
                  </a:cubicBezTo>
                  <a:cubicBezTo>
                    <a:pt x="306" y="677"/>
                    <a:pt x="336" y="738"/>
                    <a:pt x="351" y="802"/>
                  </a:cubicBezTo>
                  <a:cubicBezTo>
                    <a:pt x="376" y="907"/>
                    <a:pt x="402" y="1036"/>
                    <a:pt x="463" y="1127"/>
                  </a:cubicBezTo>
                  <a:cubicBezTo>
                    <a:pt x="477" y="1234"/>
                    <a:pt x="515" y="1373"/>
                    <a:pt x="576" y="1466"/>
                  </a:cubicBezTo>
                  <a:cubicBezTo>
                    <a:pt x="591" y="1513"/>
                    <a:pt x="599" y="1560"/>
                    <a:pt x="626" y="1603"/>
                  </a:cubicBezTo>
                  <a:cubicBezTo>
                    <a:pt x="672" y="1676"/>
                    <a:pt x="652" y="1631"/>
                    <a:pt x="701" y="1691"/>
                  </a:cubicBezTo>
                  <a:cubicBezTo>
                    <a:pt x="742" y="1741"/>
                    <a:pt x="777" y="1788"/>
                    <a:pt x="826" y="1829"/>
                  </a:cubicBezTo>
                  <a:cubicBezTo>
                    <a:pt x="867" y="1863"/>
                    <a:pt x="883" y="1900"/>
                    <a:pt x="927" y="1929"/>
                  </a:cubicBezTo>
                  <a:cubicBezTo>
                    <a:pt x="985" y="2017"/>
                    <a:pt x="960" y="1979"/>
                    <a:pt x="1002" y="2042"/>
                  </a:cubicBezTo>
                  <a:cubicBezTo>
                    <a:pt x="1021" y="2072"/>
                    <a:pt x="1077" y="2117"/>
                    <a:pt x="1077" y="2117"/>
                  </a:cubicBezTo>
                  <a:cubicBezTo>
                    <a:pt x="1098" y="2182"/>
                    <a:pt x="1073" y="2131"/>
                    <a:pt x="1127" y="2179"/>
                  </a:cubicBezTo>
                  <a:cubicBezTo>
                    <a:pt x="1153" y="2202"/>
                    <a:pt x="1172" y="2235"/>
                    <a:pt x="1202" y="2254"/>
                  </a:cubicBezTo>
                  <a:cubicBezTo>
                    <a:pt x="1215" y="2262"/>
                    <a:pt x="1229" y="2269"/>
                    <a:pt x="1240" y="2279"/>
                  </a:cubicBezTo>
                  <a:cubicBezTo>
                    <a:pt x="1329" y="2358"/>
                    <a:pt x="1266" y="2330"/>
                    <a:pt x="1340" y="2355"/>
                  </a:cubicBezTo>
                  <a:cubicBezTo>
                    <a:pt x="1422" y="2437"/>
                    <a:pt x="1328" y="2356"/>
                    <a:pt x="1427" y="2405"/>
                  </a:cubicBezTo>
                  <a:cubicBezTo>
                    <a:pt x="1475" y="2429"/>
                    <a:pt x="1567" y="2515"/>
                    <a:pt x="1615" y="2530"/>
                  </a:cubicBezTo>
                  <a:cubicBezTo>
                    <a:pt x="1672" y="2548"/>
                    <a:pt x="1720" y="2578"/>
                    <a:pt x="1778" y="2593"/>
                  </a:cubicBezTo>
                  <a:cubicBezTo>
                    <a:pt x="1889" y="2667"/>
                    <a:pt x="1922" y="2668"/>
                    <a:pt x="2066" y="26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54720" y="3817080"/>
              <a:ext cx="147600" cy="2068200"/>
            </a:xfrm>
            <a:custGeom>
              <a:avLst/>
              <a:gdLst/>
              <a:ahLst/>
              <a:rect l="l" t="t" r="r" b="b"/>
              <a:pathLst>
                <a:path w="300" h="2671">
                  <a:moveTo>
                    <a:pt x="300" y="0"/>
                  </a:moveTo>
                  <a:cubicBezTo>
                    <a:pt x="264" y="106"/>
                    <a:pt x="257" y="238"/>
                    <a:pt x="237" y="351"/>
                  </a:cubicBezTo>
                  <a:cubicBezTo>
                    <a:pt x="227" y="544"/>
                    <a:pt x="220" y="736"/>
                    <a:pt x="187" y="927"/>
                  </a:cubicBezTo>
                  <a:cubicBezTo>
                    <a:pt x="176" y="1104"/>
                    <a:pt x="151" y="1277"/>
                    <a:pt x="137" y="1453"/>
                  </a:cubicBezTo>
                  <a:cubicBezTo>
                    <a:pt x="128" y="1563"/>
                    <a:pt x="136" y="1673"/>
                    <a:pt x="99" y="1778"/>
                  </a:cubicBezTo>
                  <a:cubicBezTo>
                    <a:pt x="88" y="1875"/>
                    <a:pt x="84" y="2067"/>
                    <a:pt x="49" y="2166"/>
                  </a:cubicBezTo>
                  <a:cubicBezTo>
                    <a:pt x="24" y="2325"/>
                    <a:pt x="41" y="2201"/>
                    <a:pt x="24" y="2479"/>
                  </a:cubicBezTo>
                  <a:cubicBezTo>
                    <a:pt x="20" y="2538"/>
                    <a:pt x="0" y="2598"/>
                    <a:pt x="12" y="2655"/>
                  </a:cubicBezTo>
                  <a:cubicBezTo>
                    <a:pt x="16" y="2671"/>
                    <a:pt x="45" y="2655"/>
                    <a:pt x="62" y="265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3639240" y="5407200"/>
              <a:ext cx="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4192200" y="4427640"/>
              <a:ext cx="0" cy="36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4958280" y="3952080"/>
              <a:ext cx="0" cy="30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7020000" y="1700280"/>
            <a:ext cx="1439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h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0 lm/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čin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948360" y="4508640"/>
            <a:ext cx="1584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vaha žluté bar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D51B-A68B-436B-8360-E3079FBC2F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Zapalovač pro Na-výboj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468360" y="1557360"/>
            <a:ext cx="7992720" cy="4249440"/>
            <a:chOff x="468360" y="1557360"/>
            <a:chExt cx="7992720" cy="4249440"/>
          </a:xfrm>
        </p:grpSpPr>
        <p:grpSp>
          <p:nvGrpSpPr>
            <p:cNvPr id="509" name=""/>
            <p:cNvGrpSpPr/>
            <p:nvPr/>
          </p:nvGrpSpPr>
          <p:grpSpPr>
            <a:xfrm>
              <a:off x="5179320" y="2845800"/>
              <a:ext cx="246960" cy="366120"/>
              <a:chOff x="5179320" y="2845800"/>
              <a:chExt cx="246960" cy="366120"/>
            </a:xfrm>
          </p:grpSpPr>
          <p:sp>
            <p:nvSpPr>
              <p:cNvPr id="510" name=""/>
              <p:cNvSpPr/>
              <p:nvPr/>
            </p:nvSpPr>
            <p:spPr>
              <a:xfrm rot="5400000">
                <a:off x="5133600" y="2918880"/>
                <a:ext cx="338040" cy="24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25560" y="2845800"/>
                <a:ext cx="0" cy="36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5808600" y="3809880"/>
              <a:ext cx="306000" cy="295560"/>
              <a:chOff x="5808600" y="3809880"/>
              <a:chExt cx="306000" cy="295560"/>
            </a:xfrm>
          </p:grpSpPr>
          <p:sp>
            <p:nvSpPr>
              <p:cNvPr id="513" name=""/>
              <p:cNvSpPr/>
              <p:nvPr/>
            </p:nvSpPr>
            <p:spPr>
              <a:xfrm flipV="1">
                <a:off x="5832000" y="3809520"/>
                <a:ext cx="282600" cy="295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808600" y="4104360"/>
                <a:ext cx="30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6430320" y="3610080"/>
              <a:ext cx="306000" cy="295560"/>
              <a:chOff x="6430320" y="3610080"/>
              <a:chExt cx="306000" cy="295560"/>
            </a:xfrm>
          </p:grpSpPr>
          <p:sp>
            <p:nvSpPr>
              <p:cNvPr id="516" name=""/>
              <p:cNvSpPr/>
              <p:nvPr/>
            </p:nvSpPr>
            <p:spPr>
              <a:xfrm>
                <a:off x="6453720" y="3610080"/>
                <a:ext cx="282600" cy="295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430320" y="3611160"/>
                <a:ext cx="30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>
              <a:off x="1524960" y="2333160"/>
              <a:ext cx="6314400" cy="325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13800" y="2311560"/>
              <a:ext cx="126720" cy="347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12000" y="5517000"/>
              <a:ext cx="154800" cy="18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87520" y="2247480"/>
              <a:ext cx="154800" cy="18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50480" y="2333160"/>
              <a:ext cx="0" cy="32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83000" y="3547080"/>
              <a:ext cx="535320" cy="101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26480" y="3479760"/>
              <a:ext cx="84240" cy="20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75840" y="3479760"/>
              <a:ext cx="7020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668360" y="2979720"/>
              <a:ext cx="366120" cy="178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783200" y="450972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83920" y="309780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908360" y="552384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94320" y="226548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2105640" y="2181240"/>
              <a:ext cx="957960" cy="370800"/>
              <a:chOff x="2105640" y="2181240"/>
              <a:chExt cx="957960" cy="370800"/>
            </a:xfrm>
          </p:grpSpPr>
          <p:sp>
            <p:nvSpPr>
              <p:cNvPr id="532" name=""/>
              <p:cNvSpPr/>
              <p:nvPr/>
            </p:nvSpPr>
            <p:spPr>
              <a:xfrm>
                <a:off x="2119680" y="2181240"/>
                <a:ext cx="225360" cy="336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359080" y="2181240"/>
                <a:ext cx="225360" cy="336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584440" y="2181240"/>
                <a:ext cx="225360" cy="336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809800" y="2181240"/>
                <a:ext cx="225360" cy="336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105640" y="2349720"/>
                <a:ext cx="957960" cy="202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3444120" y="2349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317400" y="23331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94560" y="2066760"/>
              <a:ext cx="70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47480" y="1557360"/>
              <a:ext cx="10425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lumivk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42080" y="1815840"/>
              <a:ext cx="8190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ýbojk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8360" y="3873240"/>
              <a:ext cx="13665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800" spc="-1" strike="noStrike">
                  <a:solidFill>
                    <a:srgbClr val="000000"/>
                  </a:solidFill>
                  <a:latin typeface="Times New Roman"/>
                </a:rPr>
                <a:t>Kompenzačn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800" spc="-1" strike="noStrike">
                  <a:solidFill>
                    <a:srgbClr val="000000"/>
                  </a:solidFill>
                  <a:latin typeface="Times New Roman"/>
                </a:rPr>
                <a:t>kondenzá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001880" y="2109240"/>
              <a:ext cx="46476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91440" y="5359680"/>
              <a:ext cx="436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01360" y="2329560"/>
              <a:ext cx="0" cy="328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459960" y="552060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50600" y="227016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38560" y="3746160"/>
              <a:ext cx="535320" cy="101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36440" y="3695760"/>
              <a:ext cx="70200" cy="19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07600" y="3695760"/>
              <a:ext cx="57960" cy="22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924360" y="2329560"/>
              <a:ext cx="0" cy="32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42280" y="3583440"/>
              <a:ext cx="176400" cy="61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44440" y="4824360"/>
              <a:ext cx="176400" cy="61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6576120" y="2634480"/>
              <a:ext cx="723240" cy="370800"/>
              <a:chOff x="6576120" y="2634480"/>
              <a:chExt cx="723240" cy="370800"/>
            </a:xfrm>
          </p:grpSpPr>
          <p:sp>
            <p:nvSpPr>
              <p:cNvPr id="555" name=""/>
              <p:cNvSpPr/>
              <p:nvPr/>
            </p:nvSpPr>
            <p:spPr>
              <a:xfrm>
                <a:off x="6590160" y="2634480"/>
                <a:ext cx="225360" cy="336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829560" y="2634480"/>
                <a:ext cx="225360" cy="336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054920" y="2634480"/>
                <a:ext cx="225360" cy="336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576120" y="2789640"/>
                <a:ext cx="72324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6589080" y="2102400"/>
              <a:ext cx="723240" cy="370800"/>
              <a:chOff x="6589080" y="2102400"/>
              <a:chExt cx="723240" cy="370800"/>
            </a:xfrm>
          </p:grpSpPr>
          <p:sp>
            <p:nvSpPr>
              <p:cNvPr id="560" name=""/>
              <p:cNvSpPr/>
              <p:nvPr/>
            </p:nvSpPr>
            <p:spPr>
              <a:xfrm flipV="1">
                <a:off x="6603120" y="2136240"/>
                <a:ext cx="225360" cy="336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6842520" y="2136240"/>
                <a:ext cx="225360" cy="336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7067880" y="2136240"/>
                <a:ext cx="225360" cy="336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6589080" y="2102040"/>
                <a:ext cx="72324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6618240" y="2554560"/>
              <a:ext cx="600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7288200" y="2765880"/>
              <a:ext cx="720" cy="28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16400" y="3834000"/>
              <a:ext cx="535320" cy="101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971400" y="3765240"/>
              <a:ext cx="81360" cy="22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24000" y="3780000"/>
              <a:ext cx="59040" cy="22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594840" y="2752560"/>
              <a:ext cx="0" cy="28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24360" y="3048120"/>
              <a:ext cx="268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85840" y="297504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87640" y="552492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73600" y="227016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63880" y="442764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531840" y="296064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545880" y="552384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225920" y="550800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2360" y="299088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70960" y="3048120"/>
              <a:ext cx="0" cy="25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32800" y="553716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4732200" y="4298400"/>
              <a:ext cx="246960" cy="366480"/>
              <a:chOff x="4732200" y="4298400"/>
              <a:chExt cx="246960" cy="366480"/>
            </a:xfrm>
          </p:grpSpPr>
          <p:sp>
            <p:nvSpPr>
              <p:cNvPr id="582" name=""/>
              <p:cNvSpPr/>
              <p:nvPr/>
            </p:nvSpPr>
            <p:spPr>
              <a:xfrm rot="5400000">
                <a:off x="4686480" y="4371840"/>
                <a:ext cx="338400" cy="24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978440" y="4298400"/>
                <a:ext cx="0" cy="36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5487120" y="4199400"/>
              <a:ext cx="246960" cy="366480"/>
              <a:chOff x="5487120" y="4199400"/>
              <a:chExt cx="246960" cy="366480"/>
            </a:xfrm>
          </p:grpSpPr>
          <p:sp>
            <p:nvSpPr>
              <p:cNvPr id="585" name=""/>
              <p:cNvSpPr/>
              <p:nvPr/>
            </p:nvSpPr>
            <p:spPr>
              <a:xfrm rot="16200000">
                <a:off x="5441400" y="4245480"/>
                <a:ext cx="338400" cy="24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5487840" y="4199400"/>
                <a:ext cx="0" cy="36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5489280" y="4510800"/>
              <a:ext cx="246960" cy="366120"/>
              <a:chOff x="5489280" y="4510800"/>
              <a:chExt cx="246960" cy="366120"/>
            </a:xfrm>
          </p:grpSpPr>
          <p:sp>
            <p:nvSpPr>
              <p:cNvPr id="588" name=""/>
              <p:cNvSpPr/>
              <p:nvPr/>
            </p:nvSpPr>
            <p:spPr>
              <a:xfrm rot="5400000">
                <a:off x="5443560" y="4583880"/>
                <a:ext cx="338040" cy="24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35520" y="4510800"/>
                <a:ext cx="0" cy="36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3924360" y="4483800"/>
              <a:ext cx="155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5400000">
              <a:off x="4227120" y="4231800"/>
              <a:ext cx="211320" cy="51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747400" y="4511880"/>
              <a:ext cx="10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5853600" y="4075200"/>
              <a:ext cx="106200" cy="4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207400" y="4483800"/>
              <a:ext cx="0" cy="112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924440" y="5104440"/>
              <a:ext cx="535320" cy="101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7640" y="5060520"/>
              <a:ext cx="81360" cy="18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18720" y="5047200"/>
              <a:ext cx="70200" cy="23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72480" y="442872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173560" y="551448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3030840" y="2329560"/>
              <a:ext cx="9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007000" y="2329560"/>
              <a:ext cx="1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31000" y="2048400"/>
              <a:ext cx="4352040" cy="375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41160" y="2963880"/>
              <a:ext cx="0" cy="18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7841160" y="456768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68440" y="1567440"/>
              <a:ext cx="103680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apalova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638720" y="3026880"/>
              <a:ext cx="464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16960" y="3340440"/>
              <a:ext cx="34632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602240" y="4984200"/>
              <a:ext cx="31284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990120" y="3449520"/>
              <a:ext cx="34740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014360" y="3647160"/>
              <a:ext cx="33516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404240" y="2508480"/>
              <a:ext cx="3124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41720" y="4973760"/>
              <a:ext cx="27576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5400000">
              <a:off x="4428000" y="2798280"/>
              <a:ext cx="211320" cy="51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18120" y="4045320"/>
              <a:ext cx="3351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11320" y="3918240"/>
              <a:ext cx="35964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111640" y="3257280"/>
              <a:ext cx="2991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629760" y="3960000"/>
              <a:ext cx="32400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23680" y="3792240"/>
              <a:ext cx="3812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711040" y="3397680"/>
              <a:ext cx="2883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731-18EC-43EE-B7C4-92DA74455A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Xenonové výboj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900000" y="1785960"/>
            <a:ext cx="3224160" cy="380376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4427640" y="1989000"/>
            <a:ext cx="41767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2R 85v , D2S 85v Phil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íkon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35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větelný tok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3200 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ěrný sv.tok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91 lm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arevná teplota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4250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třední jas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6500 cd/cm</a:t>
            </a:r>
            <a:r>
              <a:rPr b="1" lang="cs-CZ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třední doba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500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élka oblouku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4,2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ena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000 K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F244-93DC-451D-A936-8E3E0C6FFB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alší vývoj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68360" y="2060640"/>
            <a:ext cx="83534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ikrovlnná plazmová výbojka s parami sí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zatím velmi málo rozšířena pro vysokou cen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drojem světla je rotující křemenná kulička velikosti pingpongového míčku se stopko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plněná argonem a malým množstvím sí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umístěna v ohnisku mikrovlnného zdro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zařuje spojité spektrum s barevnou teplotou 6000 K, index barevného podání Ra 7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větelný tok je možno regulovat v rozmezí 20 - 1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ivotnost světelného zdroje je 45000 hod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2A08-5EE6-4F08-952B-95A93917A7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F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65840" cy="3816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468360" y="5445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fejme, že není poslední, na kterou si můžeme posvít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577-CF91-42A1-9AFA-6F59B10449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Úkoly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jistěte příkon žárovek a vypočtěte jejich světelný 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hlédněte si dobře baňku a vlákno dlouho používané žárovky a porovnejte s novou žárovkou. Co jste zjistili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čtěte si pozorně pokyny k zacházení s halogenovou žárovkou. Co se může stát, když je nedodržím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alogenka je naplněna směsí argonu a jódu. Při teplotě 300 K je uvnitř tlak 8.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a. Jaký je tlak při provozní teplotě (uvažujte teplotu baňky)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ký proud prochází žárovkou H4 při zapnutí a po ustálení teploty ? Za jak dlouho vybijí 2 takové žárovky akumulátor s kapacitou 44 Ah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891-36C2-4E1B-BCE3-42430DC63E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Úkoly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orujte přes CD spektrum zářivky, výbojky, žárov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kreslete na bílý papír plošky vybarvené červeně, žlutě,… a pozorujte je v denním a umělém světle. Použijte tzv. zvýrazňovače a opakujte pozorován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orujte v UV světle bankovky, vzorky textilu a pracích prášk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ranzistorové rádio nalaďte na ČR1, postavte vedle lampy s úspornou zářivkou a pak rozsviťte zářiv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rovnejte náklady na osvětlení 100 wattovou žárovkou   a úspornou zářivkou s příkonem 23 W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A84-4B83-40E4-B02E-F510754CC8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C05F-8939-4974-BFAC-007B7E2F62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Zdroje informac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iškařík, S.: Moderní zdroje světla SNTL Praha 19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ww.pre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ww.energetik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ww.novalamp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ww.lighting.philip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ww.uhp.philip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og.osram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ww.xenony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8165-0DAB-4367-A618-C27F480C1D3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D35-D6F1-4176-96F3-E0E957E052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otometrické veličiny a jednot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1557360"/>
            <a:ext cx="7991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vítivost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jednotka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ande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ndela je svítivost zdroje, který v daném směru vysílá monochromatické záření o kmitočtu 540.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z a jehož zářivost v tomto směru je 1/683 wattu na steradi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4076640"/>
            <a:ext cx="799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větelný tok 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jednotka  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um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348000" y="4653000"/>
                <a:ext cx="1584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  <m:r>
                          <m:t xml:space="preserve">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505D-199B-444B-939B-B708CC4A53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otometrické veličiny a jednot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987640" y="2852640"/>
                <a:ext cx="12207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755640" y="227664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s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jednotka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andela na metr čtverečn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d.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450864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světlení  E    jednotka  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u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l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987640" y="5084640"/>
                <a:ext cx="124776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Φ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3EA-2407-4465-AC21-5751F17CF1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1743840"/>
            <a:ext cx="849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347508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347508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d.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347508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347508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u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347508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ákno žárovky 2700 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347508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ílý papír při slunečním světle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5.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347508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řivk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347508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men svíčk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347508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ěsí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347508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ačná obloh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Jas některých zdroj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429-BEE5-4C0A-A61D-1D2A474D31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oporučené hodnoty osvětl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ruh práce,prostory            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l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ychlá orientace, chodby       50 -  1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áce ve skladech                 125 -  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ení                                     250 -  500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ýsování, kreslení                500 -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ytecké práce, montáž jemn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chaniky, elektroniky        1000 a ví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9FF-7231-4110-BC00-04E8E0444C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istorické žárov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inrich Goebel 185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7632720" cy="270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25C-531E-462A-8339-D1DFCB79EE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7T10:24:40Z</dcterms:created>
  <dc:creator>J.Hubeňák</dc:creator>
  <dc:description/>
  <dc:language>en-US</dc:language>
  <cp:lastModifiedBy>Hubeňák</cp:lastModifiedBy>
  <dcterms:modified xsi:type="dcterms:W3CDTF">2005-01-01T14:45:01Z</dcterms:modified>
  <cp:revision>44</cp:revision>
  <dc:subject/>
  <dc:title>Od uhlíkové žárovky k moderním zdrojům světla</dc:title>
</cp:coreProperties>
</file>