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3429-A419-4DE3-A7B7-2B0D98BD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56F-E864-4818-A97E-77AC668B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1DDE-BB5F-443C-99F8-8018C40E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763-158A-459A-B9F2-644956BA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36A0-8FFA-4413-9885-5C0CD651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B2E2-B58D-4916-A5FB-5DBC79E4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C8C-FB74-4818-9913-0405C612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01C4-5F56-4B0A-A3D4-7D3008E0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77E6-05BC-4989-9C02-189D51AE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ABE6-89BE-453F-AC7C-922C93F2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F412-2C1F-4190-8685-CF7CC534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C6CB-1FBB-44F0-8DB1-936726E9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4CDA-E548-4E2D-A035-8A94A078351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D:/TEMP/Oblast%20&#269;lov&#283;k%20a%20p&#345;&#237;roda%20GV.doc" TargetMode="External"/><Relationship Id="rId2" Type="http://schemas.openxmlformats.org/officeDocument/2006/relationships/hyperlink" Target="file:///D:/TEMP/PT%20Environment&#225;ln&#237;%20v&#253;chova%20GV.doc" TargetMode="External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D:/TEMP/PT%20Environment&#225;ln&#237;%20v&#253;chova%20ZV.doc" TargetMode="External"/><Relationship Id="rId2" Type="http://schemas.openxmlformats.org/officeDocument/2006/relationships/hyperlink" Target="file:///D:/TEMP/PT%20Environment&#225;ln&#237;%20v&#253;chova%20ZV.doc" TargetMode="External"/><Relationship Id="rId3" Type="http://schemas.openxmlformats.org/officeDocument/2006/relationships/hyperlink" Target="file:///D:/TEMP/PT%20Environment&#225;ln&#237;%20v&#253;chova%20GV.doc" TargetMode="External"/><Relationship Id="rId4" Type="http://schemas.openxmlformats.org/officeDocument/2006/relationships/hyperlink" Target="file:///D:/TEMP/PT%20Environment&#225;ln&#237;%20v&#253;chova%20GV.doc" TargetMode="External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D:/TEMP/RUP%20ZV.doc" TargetMode="External"/><Relationship Id="rId2" Type="http://schemas.openxmlformats.org/officeDocument/2006/relationships/hyperlink" Target="file:///D:/TEMP/rupgvi.doc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D:/TEMP/Struktura_&#352;VP_1_3_Z&#352;.doc" TargetMode="External"/><Relationship Id="rId2" Type="http://schemas.openxmlformats.org/officeDocument/2006/relationships/hyperlink" Target="file:///D:/TEMP/Struktura%20&#352;VP_1_3_Gy.doc" TargetMode="External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uppraha.cz/" TargetMode="External"/><Relationship Id="rId2" Type="http://schemas.openxmlformats.org/officeDocument/2006/relationships/hyperlink" Target="http://www.vuppraha.cz/" TargetMode="External"/><Relationship Id="rId3" Type="http://schemas.openxmlformats.org/officeDocument/2006/relationships/hyperlink" Target="http://www.vuppraha.cz/" TargetMode="External"/><Relationship Id="rId4" Type="http://schemas.openxmlformats.org/officeDocument/2006/relationships/hyperlink" Target="http://www.vuppraha.cz/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0066"/>
                </a:solidFill>
                <a:latin typeface="Arial"/>
              </a:rPr>
              <a:t>KURIKULÁRNÍ REFORMA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ff0066"/>
                </a:solidFill>
                <a:latin typeface="Arial"/>
              </a:rPr>
              <a:t>RÁMCOVÉ VZDĚLÁVACÍ PROGRAMY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ff0066"/>
                </a:solidFill>
                <a:latin typeface="Arial"/>
              </a:rPr>
              <a:t>et 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DF0C-C4C6-4202-9B88-1D865D7F37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ZDĚLÁVACÍ OBLA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tato strukturace vzd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lávacího obsahu není závazná, ale dané pojetí zd</a:t>
            </a: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raz</a:t>
            </a: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cs-CZ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uje mezioborové p</a:t>
            </a: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esahy vzd</a:t>
            </a: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lávacích obor</a:t>
            </a: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 a m</a:t>
            </a: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ůž</a:t>
            </a:r>
            <a:r>
              <a:rPr b="0" lang="cs-CZ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e být </a:t>
            </a:r>
            <a:r>
              <a:rPr b="1" lang="cs-CZ" sz="3400" spc="-1" strike="noStrike">
                <a:solidFill>
                  <a:srgbClr val="ff0000"/>
                </a:solidFill>
                <a:latin typeface="Arial"/>
                <a:ea typeface="Times New Roman"/>
              </a:rPr>
              <a:t>inspirací</a:t>
            </a:r>
            <a:r>
              <a:rPr b="0" lang="cs-CZ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Arial"/>
                <a:ea typeface="Times New Roman"/>
              </a:rPr>
              <a:t>při propojování</a:t>
            </a:r>
            <a:r>
              <a:rPr b="0" lang="cs-CZ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 jejich obsah</a:t>
            </a: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členění na vzdělávací oblasti neznamená, že sdružené vzdělávací obory je nutné na úrovni ŠVP propojovat (či integrovat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DBB-7C85-44A4-80C6-A706D511AE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TRUKTURA VZDĚLÁVACÍ OBLA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arakteristik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jadřuje pojetí oblasti jako celku, její roli v rámci vzdělávaní na daném druhu šk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ílové zaměření oblasti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ím vzdělávací oblast jako celek přispívá k rozvíjení klíčových kompeten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Vzdělávací obory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áklad pro tvorbu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yučovacích předmětů v Š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5F81-D789-412A-9208-2B35A2DC9A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VZDĚLÁVACÍ OBSAH OBO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67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čekávané výstup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7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ávaz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zárove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věřitel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sledky  vzdělávaní (žák: popíše, porovná, zhodnotí, změří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7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jadřují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upeň osvoje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zdělávacího obsahu z pohledu vzdělávacího ob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7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ŠVP jsou očekávané výstup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zpracová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a „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zfázová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tak, aby se zajistilo, že jich žák na konci studia dosáh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67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67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čivo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7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střed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 dosažení očekávaných výstupů,  v RVP ZV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poruče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 RVP GV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vin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673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ŠVP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ecifiková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9E5B-E4B2-42A3-B71D-3BF5D6FB3D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ZDĚLÁVACÍ OBLAS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Člověk a příro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BORY</a:t>
            </a:r>
            <a:r>
              <a:rPr b="0" lang="en-US" sz="2800" spc="-1" strike="noStrike" u="sng">
                <a:solidFill>
                  <a:srgbClr val="cc00ff"/>
                </a:solidFill>
                <a:uFillTx/>
                <a:latin typeface="Arial"/>
              </a:rPr>
              <a:t> – RVP Z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yz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řírodo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emě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BORY </a:t>
            </a:r>
            <a:r>
              <a:rPr b="0" lang="en-US" sz="2800" spc="-1" strike="noStrike" u="sng">
                <a:solidFill>
                  <a:srgbClr val="cc00ff"/>
                </a:solidFill>
                <a:uFillTx/>
                <a:latin typeface="Arial"/>
              </a:rPr>
              <a:t>– RVPG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yz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gra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8D7E-FC9B-429B-83D8-DD6E09D58F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PRŮŘEZOVÁ TÉMATA: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díln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část vzdělávacího obsahu 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rmativní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ůřezový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rakte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ždé průřezové téma se z obsahového hlediska člení n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matické okru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šechna průřezová témat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s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škola do svého ŠVP zařadit, rozhoduje ovšem o rozsahu jejich zařazení (které tematické okruhy a jejich části, do jaké hloubky) a o formách výu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ůřezovým tématům lze věnovat samostatné vyučovací předměty nebo lze zařadit jejich obsah do vzdělávacího obsahu jiného oboru, resp. jiných ob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39CB-5472-4043-A5D6-4E06DCCF00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PRŮŘEZOVÁ TÉMATA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řehled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ff"/>
                </a:solidFill>
                <a:latin typeface="Arial"/>
              </a:rPr>
              <a:t>RVP Z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sobnostní a sociální vých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chova demokratického obč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chova k myšlení v evropských a globálních souvislos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ultikulturní vých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vironmentální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vých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diální vých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ff"/>
                </a:solidFill>
                <a:latin typeface="Arial"/>
              </a:rPr>
              <a:t>RVP G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chova k sociálním dovedno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chova k myšlení v evropských a globálních souvislos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ultikulturní vých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nvironmentální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vých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diální vých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DCE-ED5B-49E7-BF7F-0149F53D6D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RÁMCOVÝ UČEBNÍ PL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VP Z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VP G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F21D-4948-44C0-856A-EDE3E64CD1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ŠKOLNÍ VZDĚLÁVACÍ PROGRAM (ŠV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něm škola rozpracuje složky RVP n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úroveň ško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odle jejích požadavků a podmí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zdělávací obsah jednotlivých oborů je v něm rozčleněn d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yučovacích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ředmět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které 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mus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dovat se vzdělávacími ob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 vyučovací předměty se v něm zpracovávají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čební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sno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pracuje se v něm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ŠUP (školní učební plá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který musí splňovat základní parametry RUP z R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í obsahovat základní způso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dnocení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žáka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toevalua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šk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D9DC-38F7-4C96-AC3B-AB207964C1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STRUKTURA  ŠV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dentifikační ú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arakteristika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arakteristika Š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čební pl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čební osn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cení žáků a autoevaluace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ff"/>
                </a:solidFill>
                <a:uFillTx/>
                <a:latin typeface="Arial"/>
              </a:rPr>
              <a:t>http://www.vuppraha.cz/index.php?op=sections&amp;sid=2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300720" y="1600200"/>
            <a:ext cx="23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ŠVP Z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ŠVP G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B22A-4901-4BCD-879A-0A2AA86618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RIZIKA REFOR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přijetí hlavních myšlenek reformy pedagogy na škol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y s vytvářením ŠVP na škol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y spojené se vzděláváním učitelů jak v pregraduální tak postgraduální fá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0BC6-D7E9-4FAA-8E21-FF06C0AF7A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ÝCHODISKA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„AXIOMY“)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REFOR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výšení vzdělávací autonomie šk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umožnit školám svobodnější rozhodování, pokud jde především o volbu vzdělávacích cest, metod výuky, struktury vzdělávacího obsahu a do jisté míry i jeho výbě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kcent na získávání klíčových kompetenc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edy na určitý soubor vědomostí, dovedností a postojů podstatných pro osobní rozvoj jedince a jeho aktivní zapojení do společnosti a uplatnění v životě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ěly by být osvojovány a rozvíjeny na daném druhu škol a vytvářet základ pro další vzdělávání v rámci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eloživotního u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3FC6-D890-4000-A24D-4818D3D2E3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MANUÁ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cká pomoc školám při vytváření Š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ff"/>
                </a:solidFill>
                <a:uFillTx/>
                <a:latin typeface="Arial"/>
              </a:rPr>
              <a:t>http://www.vuppraha.cz/index.php?op=sections&amp;sid=2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F027-3009-419D-9BA4-BF666C6C6E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METODICKÝ PORTÁL</a:t>
            </a:r>
            <a:br>
              <a:rPr sz="40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ww.rvp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dpo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lizace kurikulární refo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todicko-praktické materiá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e všech vzdělávacích oborů, které může učitel využít při vý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ály týkající s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vorby Š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9B29-1EF0-494E-B35F-F7002B570D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DŮSLEDKY VÝCHODISEK</a:t>
            </a: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EFOR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0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vouúrovňové kurikul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2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ůsledek axiomu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2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úroveň státu → R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2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úroveň školy → Š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2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2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   pojetí vzdělávacího obsah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2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ůsledek axiomu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2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F9C4-E0E5-4D1A-A406-70249A6A88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YSTÉM KURIKULÁRNÍCH DOKUMENT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3073320" y="146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424160" y="1423440"/>
            <a:ext cx="6240600" cy="3787560"/>
            <a:chOff x="1424160" y="1423440"/>
            <a:chExt cx="6240600" cy="3787560"/>
          </a:xfrm>
        </p:grpSpPr>
        <p:grpSp>
          <p:nvGrpSpPr>
            <p:cNvPr id="49" name=""/>
            <p:cNvGrpSpPr/>
            <p:nvPr/>
          </p:nvGrpSpPr>
          <p:grpSpPr>
            <a:xfrm>
              <a:off x="1424160" y="1423440"/>
              <a:ext cx="6240600" cy="3787560"/>
              <a:chOff x="1424160" y="1423440"/>
              <a:chExt cx="6240600" cy="3787560"/>
            </a:xfrm>
          </p:grpSpPr>
          <p:sp>
            <p:nvSpPr>
              <p:cNvPr id="50" name=""/>
              <p:cNvSpPr/>
              <p:nvPr/>
            </p:nvSpPr>
            <p:spPr>
              <a:xfrm>
                <a:off x="1424160" y="4575240"/>
                <a:ext cx="1018080" cy="63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320" rIns="58320" tIns="29160" bIns="291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ŠKOLNÍ</a:t>
                </a:r>
                <a:r>
                  <a:rPr b="1" lang="en-US" sz="1100" spc="-1" strike="noStrike">
                    <a:solidFill>
                      <a:srgbClr val="808080"/>
                    </a:solidFill>
                    <a:latin typeface="Tahoma"/>
                    <a:ea typeface="Times New Roman"/>
                  </a:rPr>
                  <a:t>    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ÚROVEŇ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1434600" y="1423440"/>
                <a:ext cx="6230160" cy="3735720"/>
                <a:chOff x="1434600" y="1423440"/>
                <a:chExt cx="6230160" cy="37357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1434600" y="1423440"/>
                  <a:ext cx="1017720" cy="63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8320" rIns="58320" tIns="29160" bIns="291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STÁTNÍ ÚROVEŇ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" name=""/>
                <p:cNvGrpSpPr/>
                <p:nvPr/>
              </p:nvGrpSpPr>
              <p:grpSpPr>
                <a:xfrm>
                  <a:off x="1487520" y="1486800"/>
                  <a:ext cx="6177240" cy="3672360"/>
                  <a:chOff x="1487520" y="1486800"/>
                  <a:chExt cx="6177240" cy="3672360"/>
                </a:xfrm>
              </p:grpSpPr>
              <p:grpSp>
                <p:nvGrpSpPr>
                  <p:cNvPr id="54" name=""/>
                  <p:cNvGrpSpPr/>
                  <p:nvPr/>
                </p:nvGrpSpPr>
                <p:grpSpPr>
                  <a:xfrm>
                    <a:off x="1487520" y="2102400"/>
                    <a:ext cx="6177240" cy="3056760"/>
                    <a:chOff x="1487520" y="2102400"/>
                    <a:chExt cx="6177240" cy="3056760"/>
                  </a:xfrm>
                </p:grpSpPr>
                <p:sp>
                  <p:nvSpPr>
                    <p:cNvPr id="55" name=""/>
                    <p:cNvSpPr/>
                    <p:nvPr/>
                  </p:nvSpPr>
                  <p:spPr>
                    <a:xfrm>
                      <a:off x="2930760" y="3758040"/>
                      <a:ext cx="720" cy="891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2548080" y="3227400"/>
                      <a:ext cx="763920" cy="5094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58320" rIns="58320" tIns="29160" bIns="29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VP P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2505600" y="4649760"/>
                      <a:ext cx="4839840" cy="5094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58320" rIns="58320" tIns="29160" bIns="29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ŠKOLNÍ VZDĚLÁVACÍ PROGRAMY (ŠVP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>
                      <a:off x="1487520" y="4267440"/>
                      <a:ext cx="6177240" cy="720"/>
                    </a:xfrm>
                    <a:prstGeom prst="line">
                      <a:avLst/>
                    </a:prstGeom>
                    <a:ln cap="rnd" w="19080">
                      <a:solidFill>
                        <a:srgbClr val="0000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>
                      <a:off x="3408480" y="3429000"/>
                      <a:ext cx="381960" cy="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" name=""/>
                    <p:cNvSpPr/>
                    <p:nvPr/>
                  </p:nvSpPr>
                  <p:spPr>
                    <a:xfrm flipH="1">
                      <a:off x="7133040" y="3630600"/>
                      <a:ext cx="360" cy="1018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" name=""/>
                    <p:cNvSpPr/>
                    <p:nvPr/>
                  </p:nvSpPr>
                  <p:spPr>
                    <a:xfrm>
                      <a:off x="6655680" y="3291120"/>
                      <a:ext cx="891360" cy="509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STATN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VP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505600" y="2102400"/>
                      <a:ext cx="4839840" cy="5094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58320" rIns="58320" tIns="29160" bIns="29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ÁMCOVÉ VZDĚLÁVACÍ PROGRAMY (RVP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>
                      <a:off x="3928320" y="3227400"/>
                      <a:ext cx="763920" cy="5094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58320" rIns="58320" tIns="29160" bIns="29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VP Z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>
                      <a:off x="5477040" y="2834640"/>
                      <a:ext cx="1189080" cy="6364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58320" rIns="58320" tIns="29160" bIns="29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VP G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>
                      <a:off x="5764320" y="3599640"/>
                      <a:ext cx="764640" cy="50868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58320" rIns="58320" tIns="29160" bIns="29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VP SO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4904640" y="3248640"/>
                      <a:ext cx="381960" cy="7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4904640" y="3683880"/>
                      <a:ext cx="381960" cy="7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>
                      <a:off x="5647680" y="3503520"/>
                      <a:ext cx="360" cy="11458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4289040" y="3758040"/>
                      <a:ext cx="0" cy="8913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>
                      <a:off x="6157080" y="4140360"/>
                      <a:ext cx="0" cy="509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" name=""/>
                  <p:cNvGrpSpPr/>
                  <p:nvPr/>
                </p:nvGrpSpPr>
                <p:grpSpPr>
                  <a:xfrm>
                    <a:off x="2506320" y="1486800"/>
                    <a:ext cx="4841280" cy="509400"/>
                    <a:chOff x="2506320" y="1486800"/>
                    <a:chExt cx="4841280" cy="509400"/>
                  </a:xfrm>
                </p:grpSpPr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2506320" y="1486800"/>
                      <a:ext cx="4841280" cy="509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>
                      <a:off x="2548800" y="1571760"/>
                      <a:ext cx="4711680" cy="38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ÁRODNÍ PROGRAM VZDĚLÁVÁNÍ (NPV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74" name=""/>
          <p:cNvSpPr/>
          <p:nvPr/>
        </p:nvSpPr>
        <p:spPr>
          <a:xfrm>
            <a:off x="611280" y="5738040"/>
            <a:ext cx="79214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ystém kurikulárních dokument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Legenda: RVP PV – Rámcový vzdělávací program pro předškolní vzdělávání; RVP ZV – Rámcový vzdělávací program pro základní vzdělávání; RVP GV – Rámcový vzdělávací program pro gymnaziální vzdělávání; RVP SOV – Rámcový vzdělávací program (programy) pro střední odborné vzdělává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* Ostatní RVP – rámcové vzdělávací programy, které kromě výše uvedených vymezuje školský zákon – Rámcový vzdělávací program pro základní umělecké vzdělávání, Rámcový vzdělávací program pro jazykové vzdělávání, případně dalš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5EF1-6532-4D6F-B42F-5D711FAB1C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VP ZV, RVP GV: důležité princi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V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mezu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ákladní vzdělávací úroveň pro všechny absolventy daného druhu ško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zn. škola musí tento rámec ve svém ŠVP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achov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le může h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ohacov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dle vlastních vzdělávacích záměrů, potřeb a zájmů žáků i regionálních podmín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bízí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dnu z možných strukturací vzdělávacího obsah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kterou si ovšem škola může při dodržení určitých podmínek různým způsobem modifik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cepčně RVP GV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avazu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 RVP ZV, pracuje 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jnými kategorie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á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jné poj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9BE-7A88-487E-B005-59041AA18C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RVP ZV, RVP GV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kladní katego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íle vzdělávaní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určeny státem, jeden ze stěžejních cílů: utvářet a rozvíje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líčové kompe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líčové kompet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o velké míry určují pojetí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zdělávacího obsah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zdělávací obsa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RVP určuje jen základní závaznou úroveň pr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šechny absolven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ného druhu šk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zdělávací oblasti a ob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ůřezová té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ámcový učební plán (R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5572-B347-4873-B7F7-766912A095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KLÍČOVÉ KOMPETE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kompetence k u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kompetence k řešení probl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kompetence komunikativ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kompetence sociální a person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kompetence občans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kompetence pracov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jen v RVP</a:t>
            </a: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uppraha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rubrika Trendy vzdělávání v Evropě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eSeCo </a:t>
            </a:r>
            <a:r>
              <a:rPr b="0" lang="cs-CZ" sz="1600" spc="-1" strike="noStrike" u="sng">
                <a:solidFill>
                  <a:srgbClr val="0099ff"/>
                </a:solidFill>
                <a:uFillTx/>
                <a:latin typeface="Arial"/>
              </a:rPr>
              <a:t>www.portal-stat.admin.ch/deseco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 u="sng">
                <a:solidFill>
                  <a:srgbClr val="52b1b8"/>
                </a:solidFill>
                <a:uFillTx/>
                <a:latin typeface="Arial"/>
              </a:rPr>
              <a:t>www.eurydice.org/Documents/survey5/cs/CCC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E790-2EC5-4639-A6A7-55556D1B81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ZDĚLÁVACÍ OBSAH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ci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RVP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vymezuje pouze </a:t>
            </a:r>
            <a:r>
              <a:rPr b="1" lang="en-US" sz="2900" spc="-1" strike="noStrike">
                <a:solidFill>
                  <a:srgbClr val="ff0000"/>
                </a:solidFill>
                <a:latin typeface="Arial"/>
              </a:rPr>
              <a:t>základní úroveň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vzdělávacího obsahu závaznou pro všechny absolventy daného druhu škol, který škola může dále, uzná-li to za vhodné, rozšiřovat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RVP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nabízí jen jednu z možných strukturací vzdělávacího obsahu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terou si škola může při dodržení určitých podmínek různým způsobem modifikovat (např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pojování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ílčích témat, tematických celků a okruhů, či celých vzdělávacích oborů nebo i oblast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B90C-A075-4ADF-8B4C-EF049E582A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ZDĚLÁVACÍ OBSAH: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dělávací oblasti a ob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zyk a jazyková komunika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ory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Český jazyk a literatura, Cizí jazy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atematika a její aplika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ematika a její aplik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Člověk a přírod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ory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yzika, Chemie, Přírodopis, Zeměpi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yzika,Chemie, Biologie, Geografie, Geolog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Člověk a společno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ory: Z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ějepis, Výchova k občanství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V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čanský a společenskovědní základ, Histo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Člověk a svět prá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Člověk a svět 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formační a komunikační technologi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ční a komunikační techn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Člověk a zdrav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ory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ýchova ke zdraví, Tělesná výcho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Umění a kultur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ory: ZV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dební výchova, Výtvarná výchov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V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dební obor, Výtvarný ob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Člověk a jeho svě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Člověk a jeho svět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en v Z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395D-418E-4071-BFA2-67BDE68685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3:17:56Z</dcterms:created>
  <dc:creator>VUPPraha</dc:creator>
  <dc:description/>
  <dc:language>en-US</dc:language>
  <cp:lastModifiedBy>Uživatel</cp:lastModifiedBy>
  <dcterms:modified xsi:type="dcterms:W3CDTF">2005-05-16T08:09:59Z</dcterms:modified>
  <cp:revision>40</cp:revision>
  <dc:subject/>
  <dc:title>KURIKULÁRNÍ REFORMA  neboli  REFORMA VZDĚLÁVÁNÍ</dc:title>
</cp:coreProperties>
</file>