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55F6-9E1D-4B66-A432-C1723B522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B48C-6DF8-4555-90D9-3F3831967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038E-20F4-4598-BD33-FC98BCC9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ADA-7C9C-46B5-B9A6-D0FB8C8D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99EF6-F213-4885-A504-61D9A8589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ABC11-3234-49B5-885E-B77BBD5C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1F41-8766-4B3D-878A-1D3C325BE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7C170-AE8C-4B0F-81E4-694136164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18A1-6898-4B88-A0C8-CD9A20D5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03F0-7CBC-49C9-B1E8-D12DE3DA2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BF344-A32A-4442-8E85-41011115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4C4E-8E5C-4319-BB5C-2894C5E8F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228C-D67F-4F38-AE0E-5FD06D6A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7D0ED-CFD1-40BC-9661-22BD2917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FE15B-9BB7-4EFC-9A88-62822FB31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947E0-C5B9-477A-B1D9-ADBC66E41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1E2A-4F40-4D27-A0F0-EAD3C01E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D688-ED9E-4B9F-A04B-3DFA3373E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A4C4-6FB6-4BF6-AC93-D9160F1A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BECD-A2BF-44BA-8361-81D623A58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157-BAB6-4A7D-B9F7-EA38878B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543B-BE11-474C-B699-3067395EF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0263-2481-45C9-81A7-DBF1DA16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267B-DC68-4862-9C11-E3F74BB1B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99cc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99cc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64913-E12C-47F1-A10B-6CDE16AE9179}" type="slidenum">
              <a:rPr b="0" lang="cs-CZ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E6C6-0F68-49F3-8AD2-C99CDEAD63D4}" type="slidenum">
              <a:rPr b="0" lang="cs-CZ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99cc00"/>
          </a:solidFill>
          <a:ln w="936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4716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99cc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99cc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1294920"/>
            <a:ext cx="69134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Některé možnosti výuky akustiky</a:t>
            </a:r>
            <a:r>
              <a:rPr b="1" lang="cs-CZ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3500280"/>
            <a:ext cx="46818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669900"/>
                </a:solidFill>
                <a:latin typeface="Times New Roman"/>
              </a:rPr>
              <a:t>Jiří Tesař</a:t>
            </a:r>
            <a:r>
              <a:rPr b="1" lang="cs-CZ" sz="2800" spc="-1" strike="noStrike">
                <a:solidFill>
                  <a:srgbClr val="6699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669900"/>
                </a:solidFill>
                <a:latin typeface="Times New Roman"/>
              </a:rPr>
              <a:t>	</a:t>
            </a:r>
            <a:r>
              <a:rPr b="1" lang="cs-CZ" sz="2800" spc="-1" strike="noStrike">
                <a:solidFill>
                  <a:srgbClr val="669900"/>
                </a:solidFill>
                <a:latin typeface="Times New Roman"/>
              </a:rPr>
              <a:t>Petr Bartoš</a:t>
            </a:r>
            <a:r>
              <a:rPr b="1" lang="cs-CZ" sz="2400" spc="-1" strike="noStrike">
                <a:solidFill>
                  <a:srgbClr val="6699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9900"/>
                </a:solidFill>
                <a:latin typeface="Times New Roman"/>
              </a:rPr>
              <a:t>katedra fyziky PF J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19640" y="558972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669900"/>
                </a:solidFill>
                <a:latin typeface="Times New Roman"/>
              </a:rPr>
              <a:t>Srní  28. – 30. 4. 20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3300"/>
                </a:solidFill>
                <a:latin typeface="Times New Roman"/>
              </a:rPr>
              <a:t>Ozvěna a dozvuk na ZŠ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1773000"/>
            <a:ext cx="8001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Zdroj zvuku i detekující člověk jsou na různém místě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48360" y="328464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84360" y="2708280"/>
          <a:ext cx="2879640" cy="2220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2708280"/>
                    <a:ext cx="2879640" cy="22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148360" y="3357720"/>
                <a:ext cx="2243160" cy="85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3300"/>
                </a:solidFill>
                <a:latin typeface="Times New Roman"/>
              </a:rPr>
              <a:t>Ozvěna a dozvuk na ZŠ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3640" y="1844280"/>
            <a:ext cx="86756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30000"/>
              </a:lnSpc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V učebně nelze demonstrovat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výukové demonstrační programy umožňují změnu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cc00"/>
                </a:solidFill>
                <a:latin typeface="Wingdings"/>
                <a:ea typeface="Wingdings"/>
              </a:rPr>
              <a:t></a:t>
            </a:r>
            <a:r>
              <a:rPr b="1" lang="cs-CZ" sz="2400" spc="-1" strike="noStrike">
                <a:solidFill>
                  <a:srgbClr val="993300"/>
                </a:solidFill>
                <a:latin typeface="Times New Roman"/>
              </a:rPr>
              <a:t>vzdálenosti mezi zdrojem a detektorem od odrazné stěny</a:t>
            </a: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993300"/>
                </a:solidFill>
                <a:latin typeface="Times New Roman"/>
              </a:rPr>
              <a:t>libovolnou polohu zdroje zvuku vzhledem k odrazné </a:t>
            </a:r>
            <a:r>
              <a:rPr b="1" lang="cs-CZ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993300"/>
                </a:solidFill>
                <a:latin typeface="Times New Roman"/>
              </a:rPr>
              <a:t>stěně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30000"/>
              </a:lnSpc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vytvářejí u žáků jasnou představu, jaký rozdíl je mezi ozvěnou a dozvukem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48360" y="328464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3300"/>
                </a:solidFill>
                <a:latin typeface="Times New Roman"/>
              </a:rPr>
              <a:t>Dopplerův je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při pohybu zdroje zvuku nebo pohybu detektoru (člověka) je vnímán zvuk o jiné frekvenci než má zvuk vydávaný zdrojem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pohybu detektoru - vnímání většího resp. nižšího počtu  vlnoploch vlivem vzájemné rychlosti signálu a detektoru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pohybu zdroje zvuku - změna vlnové délky vnímaného zvuku v důsledku „zhušťování a zřeďování“ vlnoploch zvukového vlnění - viz obr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3300"/>
                </a:solidFill>
                <a:latin typeface="Times New Roman"/>
              </a:rPr>
              <a:t>Dopplerův je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71640" y="1989000"/>
          <a:ext cx="4751280" cy="2851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1989000"/>
                    <a:ext cx="4751280" cy="28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042920" y="50356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Dopplerův</a:t>
            </a:r>
            <a:r>
              <a:rPr b="0" lang="cs-C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jev – pohyb zdroje zvuk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3300"/>
                </a:solidFill>
                <a:latin typeface="Times New Roman"/>
              </a:rPr>
              <a:t>Dopplerův je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3300"/>
                </a:solidFill>
                <a:latin typeface="Times New Roman"/>
              </a:rPr>
              <a:t>Pro vnímanou frekvenci zvuku platí vztah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993300"/>
                </a:solidFill>
                <a:latin typeface="Times New Roman"/>
              </a:rPr>
              <a:t>f´=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frekvence zvuku vnímaná detektor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993300"/>
                </a:solidFill>
                <a:latin typeface="Times New Roman"/>
              </a:rPr>
              <a:t>f</a:t>
            </a:r>
            <a:r>
              <a:rPr b="0" i="1" lang="cs-CZ" sz="2400" spc="-1" strike="noStrike" baseline="-25000">
                <a:solidFill>
                  <a:srgbClr val="993300"/>
                </a:solidFill>
                <a:latin typeface="Times New Roman"/>
              </a:rPr>
              <a:t>0</a:t>
            </a:r>
            <a:r>
              <a:rPr b="0" i="1" lang="cs-CZ" sz="2400" spc="-1" strike="noStrike">
                <a:solidFill>
                  <a:srgbClr val="993300"/>
                </a:solidFill>
                <a:latin typeface="Times New Roman"/>
              </a:rPr>
              <a:t>=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frekvence vydávaná zdroj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993300"/>
                </a:solidFill>
                <a:latin typeface="Times New Roman"/>
              </a:rPr>
              <a:t>c 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= rychlost šíření zvuku ve vzduchu (340 m.s-1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993300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 = rychlost pohybu detektoru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993300"/>
                </a:solidFill>
                <a:latin typeface="Times New Roman"/>
              </a:rPr>
              <a:t>w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 = rychlost pohybu zdroje zvu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476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1763640" y="2637000"/>
                <a:ext cx="215892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t xml:space="preserve">c</m:t>
                        </m:r>
                        <m:r>
                          <m:t xml:space="preserve">±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c</m:t>
                        </m:r>
                        <m:r>
                          <m:t xml:space="preserve">±</m:t>
                        </m:r>
                        <m:r>
                          <m:t xml:space="preserve">w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3300"/>
                </a:solidFill>
                <a:latin typeface="Times New Roman"/>
              </a:rPr>
              <a:t>Dopplerův je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2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5000"/>
              </a:lnSpc>
              <a:spcBef>
                <a:spcPts val="601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3300"/>
                </a:solidFill>
                <a:latin typeface="Times New Roman"/>
              </a:rPr>
              <a:t>vnímaná (detekovaná) frekvence zvuku záleží na tom, zda se pohybuje zdroj zvuku nebo detektor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01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3300"/>
                </a:solidFill>
                <a:latin typeface="Times New Roman"/>
              </a:rPr>
              <a:t>velikost rychlosti zdroje zvuku má na frekvenci vnímaného zvuku větší vliv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spcBef>
                <a:spcPts val="601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3300"/>
                </a:solidFill>
                <a:latin typeface="Times New Roman"/>
              </a:rPr>
              <a:t>Výrazný rozdíl frekvence je pozorovatelný při míjení zdroje zvuku a detektoru, kdy vnímaná frekvence se mění od hodnoty nižší než je frekvence zdroje zvuku na hodnotu vyšší než je frekvence zdroje zvuku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3300"/>
                </a:solidFill>
                <a:latin typeface="Times New Roman"/>
              </a:rPr>
              <a:t>Dopplerův jev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1557000"/>
            <a:ext cx="8001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349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Ani tento jev nelze demonstrovat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349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výukový demonstrační program umožňuje: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změnu směru i rychlosti pohybu zdroje zvuku i detektoru (nebo v klidu)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frekvence zvuku vydávaného zdrojem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349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v průběhu simulace můžeme zřetelně sledovat změnu a hlasitosti zvuku v závislosti na rychlosti pohybu a vzdálenosti od pozorovatel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3300"/>
                </a:solidFill>
                <a:latin typeface="Times New Roman"/>
              </a:rPr>
              <a:t>Demonstrační program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300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vytvořeny v  jazyku DELPHI - velikost je cca 0,5 MB,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300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požadavky na hardware a software jsou minimální. (OS MS Windows a nainstalovaná zvuková karta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300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programy na ozvěnu umožňují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- výběr vhodného zvuku (soubory wav, mid, mp3) 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- nastavení výchozí hlasitosti simulovaného zvuku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300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v ini souboru je možno měnit koeficient, který koriguje průběh celé simulace vzhledem k rychlosti procesoru PC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a měnit polohu detektoru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3300"/>
                </a:solidFill>
                <a:latin typeface="Times New Roman"/>
              </a:rPr>
              <a:t>Didaktický přín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435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349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působí kladně na motivaci žáků k řešení dané problematiky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349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vyhledání případně vytvoření vlastního zvukového souboru a jeho následným použitím se  žáci ocitají v roli „experimentátora – objevitele“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349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naplněn požadavek RVP „...rozvíjet schopnost samostatně se rozhodovat, tvořivě a kriticky myslet,....“ .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3300"/>
                </a:solidFill>
                <a:latin typeface="Times New Roman"/>
              </a:rPr>
              <a:t>Další vývoj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30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20000"/>
              </a:lnSpc>
              <a:spcBef>
                <a:spcPts val="349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Připravujeme rovněž v MATLABu (dokonalejší simulace a grafické znázornění uvedených jevů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264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vhodné i pro výuku základního kurzu fyziky v přípravě budoucích učitelů,</a:t>
            </a:r>
            <a:r>
              <a:rPr b="0" lang="cs-CZ" sz="2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20000"/>
              </a:lnSpc>
              <a:spcBef>
                <a:spcPts val="349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vykreslení grafické závislost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Rámcové vzdělávací programy (RVP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Velké očekávání mezi laickou veřejností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nemění zásadním způsobem obsah výuky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změna v oblasti metod výuky a přístupu k žákům,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podobné očekávání v polovině 90. let minulého století: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i="1" lang="cs-CZ" sz="2400" spc="-1" strike="noStrike">
                <a:solidFill>
                  <a:srgbClr val="993300"/>
                </a:solidFill>
                <a:latin typeface="Times New Roman"/>
              </a:rPr>
              <a:t>naplněno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: výuka jazyků, výpočetní techniky, tolerance k žákům, alternativní učebnice,…. 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3300"/>
                </a:solidFill>
                <a:latin typeface="Times New Roman"/>
              </a:rPr>
              <a:t>Kontak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11280" y="2060640"/>
            <a:ext cx="35272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3300"/>
                </a:solidFill>
                <a:latin typeface="Times New Roman"/>
              </a:rPr>
              <a:t>PaedDr. Jiří TESAŘ, Ph.D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3300"/>
                </a:solidFill>
                <a:latin typeface="Times New Roman"/>
              </a:rPr>
              <a:t>Katedra fyziky 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3300"/>
                </a:solidFill>
                <a:latin typeface="Times New Roman"/>
              </a:rPr>
              <a:t>Pedagogická fakulta JU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3300"/>
                </a:solidFill>
                <a:latin typeface="Times New Roman"/>
              </a:rPr>
              <a:t>Jeronýmova 10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3300"/>
                </a:solidFill>
                <a:latin typeface="Times New Roman"/>
              </a:rPr>
              <a:t>České Budějovice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3300"/>
                </a:solidFill>
                <a:latin typeface="Times New Roman"/>
              </a:rPr>
              <a:t>CZ – 371 15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3300"/>
                </a:solidFill>
                <a:latin typeface="Wingdings 2"/>
                <a:ea typeface="Wingdings 2"/>
              </a:rPr>
              <a:t></a:t>
            </a:r>
            <a:r>
              <a:rPr b="1" lang="cs-CZ" sz="2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cs-CZ" sz="2200" spc="-1" strike="noStrike">
                <a:solidFill>
                  <a:srgbClr val="993300"/>
                </a:solidFill>
                <a:latin typeface="Times New Roman"/>
              </a:rPr>
              <a:t>+420 387 773 051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3300"/>
                </a:solidFill>
                <a:latin typeface="Times New Roman"/>
              </a:rPr>
              <a:t>E-mail: raset@pf. jcu.cz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2060640"/>
            <a:ext cx="41148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3300"/>
                </a:solidFill>
                <a:latin typeface="Times New Roman"/>
              </a:rPr>
              <a:t>Mgr. Petr Bartoš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3300"/>
                </a:solidFill>
                <a:latin typeface="Times New Roman"/>
              </a:rPr>
              <a:t>Katedra fyziky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3300"/>
                </a:solidFill>
                <a:latin typeface="Times New Roman"/>
              </a:rPr>
              <a:t>Pedagogická fakulta J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3300"/>
                </a:solidFill>
                <a:latin typeface="Times New Roman"/>
              </a:rPr>
              <a:t>Jeronýmova 1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3300"/>
                </a:solidFill>
                <a:latin typeface="Times New Roman"/>
              </a:rPr>
              <a:t>České Budějovic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3300"/>
                </a:solidFill>
                <a:latin typeface="Times New Roman"/>
              </a:rPr>
              <a:t>CZ – 371 1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3300"/>
                </a:solidFill>
                <a:latin typeface="Wingdings 2"/>
                <a:ea typeface="Wingdings 2"/>
              </a:rPr>
              <a:t></a:t>
            </a:r>
            <a:r>
              <a:rPr b="1" lang="cs-CZ" sz="2200" spc="-1" strike="noStrike">
                <a:solidFill>
                  <a:srgbClr val="993300"/>
                </a:solidFill>
                <a:latin typeface="Verdana"/>
              </a:rPr>
              <a:t> </a:t>
            </a:r>
            <a:r>
              <a:rPr b="1" lang="cs-CZ" sz="2200" spc="-1" strike="noStrike">
                <a:solidFill>
                  <a:srgbClr val="993300"/>
                </a:solidFill>
                <a:latin typeface="Times New Roman"/>
              </a:rPr>
              <a:t>+420 387 773 08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69800" indent="-46980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3300"/>
                </a:solidFill>
                <a:latin typeface="Times New Roman"/>
              </a:rPr>
              <a:t>E-mail: bartos-petr@seznam.c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3300"/>
                </a:solidFill>
                <a:latin typeface="Times New Roman"/>
              </a:rPr>
              <a:t>RVP a výuka fyziky na ZŠ a gymnáziích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0010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3300"/>
                </a:solidFill>
                <a:latin typeface="Times New Roman"/>
              </a:rPr>
              <a:t>Vzdělávací oblast  „Člověk a příroda“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3300"/>
                </a:solidFill>
                <a:latin typeface="Times New Roman"/>
              </a:rPr>
              <a:t>Základní škola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fyzika, zeměpis, přírodopis, chemie 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3300"/>
                </a:solidFill>
                <a:latin typeface="Times New Roman"/>
              </a:rPr>
              <a:t>Gymnázium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0" i="1" lang="cs-CZ" sz="22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fyzika, zeměpis, přírodopis, chemie, geologie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25000"/>
              </a:lnSpc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Snaha vytvořit integrované pojetí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	</a:t>
            </a:r>
            <a:r>
              <a:rPr b="0" i="1" lang="cs-CZ" sz="2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jedním z možných témat je výuka akustiky (fyzikální podstata šíření – fyziologická podstata vnímání zvuku)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3300"/>
                </a:solidFill>
                <a:latin typeface="Times New Roman"/>
              </a:rPr>
              <a:t>RVP a výuka akustiky na gymnázi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27244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Tématický celek „mechanické kmitání a vlnění“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akustika je pojata jako aplikace předchozí teoretické části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v očekávaných výstupech však akustika není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přehled učiva uvádí: „chvění pružných těles; zvuk, jeho hlasitost a intenzita“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3300"/>
                </a:solidFill>
                <a:latin typeface="Times New Roman"/>
              </a:rPr>
              <a:t>RVP a výuka akustiky na základní ško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272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3300"/>
                </a:solidFill>
                <a:latin typeface="Times New Roman"/>
              </a:rPr>
              <a:t>RVP uvádí následující očekávané výstupy: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3300"/>
                </a:solidFill>
                <a:latin typeface="Times New Roman"/>
              </a:rPr>
              <a:t>„</a:t>
            </a:r>
            <a:r>
              <a:rPr b="0" lang="cs-CZ" sz="3200" spc="-1" strike="noStrike">
                <a:solidFill>
                  <a:srgbClr val="993300"/>
                </a:solidFill>
                <a:latin typeface="Times New Roman"/>
              </a:rPr>
              <a:t>žák: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3300"/>
                </a:solidFill>
                <a:latin typeface="Times New Roman"/>
              </a:rPr>
              <a:t>rozpozná ve svém okolí zdroje zvuku a kvalitativně analyzuje příhodnost daného prostředí pro šíření zvuku,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993300"/>
                </a:solidFill>
                <a:latin typeface="Times New Roman"/>
              </a:rPr>
              <a:t>posoudí možnosti zmenšování vlivu nadměrného hluku na životní prostředí.“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3300"/>
                </a:solidFill>
                <a:latin typeface="Times New Roman"/>
              </a:rPr>
              <a:t>RVP a výuka akustiky na základní ško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272440" cy="30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993300"/>
                </a:solidFill>
                <a:latin typeface="Times New Roman"/>
              </a:rPr>
              <a:t>Učivo je charakterizováno jako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„</a:t>
            </a: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vlastnosti zvuku“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993300"/>
                </a:solidFill>
                <a:latin typeface="Times New Roman"/>
              </a:rPr>
              <a:t>obsahuje pojmy: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cs-CZ" sz="33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rychlost šíření zvuku,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odraz zvuku na překážce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001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3300"/>
                </a:solidFill>
                <a:latin typeface="Times New Roman"/>
              </a:rPr>
              <a:t>Aplikace rychlosti šíření a odrazu zvuku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160" y="1905120"/>
            <a:ext cx="8272440" cy="26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3300"/>
                </a:solidFill>
                <a:latin typeface="Times New Roman"/>
              </a:rPr>
              <a:t>Na ZŠ a nižším stupni gymnázia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cs-CZ" sz="2500" spc="-1" strike="noStrike">
                <a:solidFill>
                  <a:srgbClr val="993300"/>
                </a:solidFill>
                <a:latin typeface="Times New Roman"/>
              </a:rPr>
              <a:t>ozvěna a dozvuk,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93300"/>
                </a:solidFill>
                <a:latin typeface="Times New Roman"/>
              </a:rPr>
              <a:t>na vyšším stupni gymnázia (fyzikální seminář):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Dopplerův jev</a:t>
            </a:r>
            <a:r>
              <a:rPr b="0" i="1" lang="cs-CZ" sz="2400" spc="-1" strike="noStrike">
                <a:solidFill>
                  <a:srgbClr val="99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3300"/>
                </a:solidFill>
                <a:latin typeface="Times New Roman"/>
              </a:rPr>
              <a:t>Ozvěna a dozvu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Rozdíl při vnímání dvou zvuků a sice původního a jeho odrazu od nějaké odrazné stěny (=překážky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jednoduchý zvuk (např. houkačka) rozlišíme dva stejné zvuky, jejichž časové zpoždění je minimálně 0,1 s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993300"/>
                </a:solidFill>
                <a:latin typeface="Symbol"/>
                <a:ea typeface="Symbol"/>
              </a:rPr>
              <a:t></a:t>
            </a:r>
            <a:r>
              <a:rPr b="0" i="1" lang="cs-CZ" sz="2400" spc="-1" strike="noStrike">
                <a:solidFill>
                  <a:srgbClr val="9933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&gt; 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0,1 s ….. ozvěna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buClr>
                <a:srgbClr val="99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993300"/>
                </a:solidFill>
                <a:latin typeface="Symbol"/>
                <a:ea typeface="Symbol"/>
              </a:rPr>
              <a:t></a:t>
            </a:r>
            <a:r>
              <a:rPr b="0" i="1" lang="cs-CZ" sz="2400" spc="-1" strike="noStrike">
                <a:solidFill>
                  <a:srgbClr val="9933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&lt; 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0,1 s ….. 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do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z</a:t>
            </a: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vuk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 (oba zvuky vnímáme spojeně ale 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993300"/>
                </a:solidFill>
                <a:latin typeface="Times New Roman"/>
              </a:rPr>
              <a:t>oproti původnímu zvuku protaženě).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0010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3300"/>
                </a:solidFill>
                <a:latin typeface="Times New Roman"/>
              </a:rPr>
              <a:t>Ozvěna a dozvuk na ZŠ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773000"/>
            <a:ext cx="800100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Zdroj zvuku i detekující člověk jsou na stejném místě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26920" y="2492280"/>
          <a:ext cx="2664000" cy="2327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2492280"/>
                    <a:ext cx="2664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148360" y="3284640"/>
            <a:ext cx="26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5076720" y="2997360"/>
                <a:ext cx="17287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755640" y="4869000"/>
            <a:ext cx="698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Pro </a:t>
            </a:r>
            <a:r>
              <a:rPr b="0" i="1" lang="cs-CZ" sz="2800" spc="-1" strike="noStrike">
                <a:solidFill>
                  <a:srgbClr val="993300"/>
                </a:solidFill>
                <a:latin typeface="Symbol"/>
                <a:ea typeface="Symbol"/>
              </a:rPr>
              <a:t></a:t>
            </a:r>
            <a:r>
              <a:rPr b="0" i="1" lang="cs-CZ" sz="2800" spc="-1" strike="noStrike">
                <a:solidFill>
                  <a:srgbClr val="993300"/>
                </a:solidFill>
                <a:latin typeface="Times New Roman"/>
              </a:rPr>
              <a:t>t</a:t>
            </a: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 =</a:t>
            </a: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0,1 s;   </a:t>
            </a:r>
            <a:r>
              <a:rPr b="0" i="1" lang="cs-CZ" sz="2800" spc="-1" strike="noStrike">
                <a:solidFill>
                  <a:srgbClr val="993300"/>
                </a:solidFill>
                <a:latin typeface="Times New Roman"/>
              </a:rPr>
              <a:t>c</a:t>
            </a: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 = 340 m.s</a:t>
            </a:r>
            <a:r>
              <a:rPr b="0" lang="cs-CZ" sz="2800" spc="-1" strike="noStrike" baseline="30000">
                <a:solidFill>
                  <a:srgbClr val="993300"/>
                </a:solidFill>
                <a:latin typeface="Times New Roman"/>
              </a:rPr>
              <a:t>-1</a:t>
            </a: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mezní vzdálenost     </a:t>
            </a:r>
            <a:r>
              <a:rPr b="0" i="1" lang="cs-CZ" sz="2800" spc="-1" strike="noStrike">
                <a:solidFill>
                  <a:srgbClr val="993300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993300"/>
                </a:solidFill>
                <a:latin typeface="Times New Roman"/>
              </a:rPr>
              <a:t> = 17 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6T11:16:39Z</dcterms:created>
  <dc:creator>raset</dc:creator>
  <dc:description/>
  <dc:language>en-US</dc:language>
  <cp:lastModifiedBy>Jiří Tesař</cp:lastModifiedBy>
  <dcterms:modified xsi:type="dcterms:W3CDTF">2005-05-05T09:43:14Z</dcterms:modified>
  <cp:revision>150</cp:revision>
  <dc:subject/>
  <dc:title>Komparace učebnic fyziky pro ZŠ</dc:title>
</cp:coreProperties>
</file>