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F84-BFC7-4B75-A5AA-F54E1C10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5A5-B01F-413B-AD27-C31920AA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10E4-2C08-4754-80F0-4F953616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AA6-C90C-429F-A9AF-485CA195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65A-11AC-4B67-829D-CC3D2220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904E-69C1-4E4F-85D2-1C4AE579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313-69F4-4456-9D63-03C983C8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398-3B45-4C00-B555-CD3C6613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CCC-4956-47BF-A975-5F1275E6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E93-3F94-426E-BD61-B2446A34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92F-9C26-4ADA-844F-8B575AE2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1F4-6009-4088-85EF-0339FCC4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ECC1-BF2E-473F-A7EF-A1BB16125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daktika přírodověd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ámcové vzdělávací program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osef T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dagogická fakulta MU v Br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daktika přírodovědy a příprava učitel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éma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Klíčové poj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ozofie přírodovědného vzdělávání a výchov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e a disharmonie, racionální a emotivní, text a kontext, informace a formace, kvalifikace a vzdělání, globalizace a vzdělání, holism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zdělávací cíle přírodověd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zdělávací cíle (vědomosti, dovednosti, postoje, kompetence), taxonomie vzdělávacích cílů, vzdělávací standar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ologické prvky výuky přírodověd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ody, formy, prostředky, principy, alternativní postu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ální výuka přírodověd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ístní krajina, neformální výuka, regionální kabi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vorba přírodovědného kuriku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Žák, učitel, učební plány, tvorba kurikula, vzdělávací progra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eriment ve výuce přírodověd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ědecký a školní pokus, klasifikace pokusů, technická a didaktická složka pokusu, pomůc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rní výukové technologie v přírodovědě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T ve výuce, možnosti a hranice užití I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Úloha ve výuce přírodověd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Úloha, klasifikace úloh, projek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ktivizace a motivace ve výuce přírodověd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tivizace, motivace, motivační techn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gnostika ve výuce přírodověd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aktická diagnostika, diagnóza, nástroje (testy, dotazníky, pozorování aj.), hodnocení, klasifik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énní výuka přírodověd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én, pozorování, sběr dat a přírodn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viromentální výcho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ce a kooperace, enviromentalní vzdělávání a výchov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ávažné nedostatky RVP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ávný přesun vzdělávacích cílů od vědomostí k dovednostem, ale bez dostatečného zajištění potřebných podmínek (přílišné množství a neujasněná struktura vzdělávacích výstupů, chybějící vhodné učebnice, nedostatečné laboratorní vybavení atd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ostatečná příprava učitelů na osvojování dovedností žáků (dosud připravováni převážně na výuku vědomostí apod.), na tvorbu kurikula (školní vzdělávací programy), diagnostiku dovedností 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ybějící nebo jen pilotní evaluační standardy a nástroje pro dovednosti a kompetence, včetně jejich systémového uplatn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ořešenost systémové vazby výstupů a klíčových kompetencí (nejistota, zda-li vytýčenými výstupy jsou klíčové kompetence vytvářeny rovnoměrně, dostatečně, s ohledem na věkové zvláštnosti atd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etrvávající tradiční kopírování struktury vědy a vyučovacího oboru (chybějící speciální tématická struktura učiva a výstupů vhodná např. pro integrovanou přírodověd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ostatečné podmínky pro rychlé zavádění nových výukových technologií (chybějící výukové počítačové programy, internetové databáze atd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cenění konzervativnosti, pohodlnosti, formálnosti a malé motivovanosti učitelů k žádoucím změná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zioborové přírodovědné problém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ordinační ro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ílová koordin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e oborů v přírodovědné obl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ůřezová tém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ová výu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č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o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integrované výuky přírodověd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ovaná příprava učitele přírodově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VP Z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 jednoho vzdělávacího oboru může být vytvořen jeden vyučovací předmět nebo více vyučovacích předmětů, případně může vyučovací předmět vzniknout integrací více vzdělávacích oborů (integrovaný vyučovací předmět). RVP ZV umožňuj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pojení (integrac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zdělávacího obsahu na úrovni témat, tématických okruhů, případně vzdělávacích oborů. Integrace vzdělávacího obsahu musí respektovat logiku výstavby jednotlivých vzdělávacích oborů. Základní podmínkou funkční integrace je kvalifikovaný učitel.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1]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NKINS, E.W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earch in Science Education: Time for a Health Check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udies in Science Education. Leeds: University of Leeds,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2] BROCKMEYEROVÁ-FENCLOVÁ, J., ČAPEK, V., KOTÁSEK, J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borové didaktiky jako samostatné vědecké disciplíny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edagogika, 46, 2000, č.1, s. 23-3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3] FENCLOVÁ, J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Úvod do teorie a metodologie didaktiky fyziky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aha: SPN, 198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4] ŠIMONÍK, O. Obecná didaktika a oborové didaktiky.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daktika - opora proměn 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výuky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radec Králové: Gaudeamus, 2004, s. 53-5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5] BÍLEK, M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daktika chemie-výzkum a vysokoškolská výuka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radec Králové: M&amp;V, 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6]  JANÁS, J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zipředmětové vztahy a jejich uplatňování ve fyzice a chemii na základní škol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rno: UJEP, 198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7]  NEZVALOVÁ, D.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Kompetence a standardy v pregraduální přípravě-slabá či silná stránka instituce vzdělávající učitele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: Kompetence a standardy ve fyzikálním vzdělávání.  Olomouc: Univerzita Palackého, 2004. s. 7-2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8] TRNA, J.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Evaluační standardy ve fyzikálním vzdělávání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: Kompetence a standardy ve fyzikálním vzdělávání. Olomouc: Univerzita Palackého, 2004. s. 52-6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9]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ámcový vzdělávací program pro základní vzdělávání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smt.cz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(k 10.4.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10]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Rámcový vzdělávací program pro gymnaziální vzdělávání. Pilotní ver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Praha: VÚP,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resa autora: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. RNDr. Josef Trna, CS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tedra fyziky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dagogická fakulta MU v Brně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říčí 7, 603 00 Brno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na@ped.muni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kace byla zpracována v rámci grantového projektu GAČR 406/05/024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k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ádrem příspěvku je problematika konstituování didaktiky přírodovědy jako mezioborové didaktiky, včetně jejích funkcí a oblastí bádání ve vztahu k oborovým přírodovědným didaktikám. Je uveden přehled aktuálních problémů při zavádění rámcových vzdělávacích programů do českých škol a jsou navrženy možnosti, jak se didaktika přírodovědy může podílet na jejich řešení.  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íčová slov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aktika přírodovědy, mezioborová didaktika, oborové přírodovědné didaktiky, mezipředmětové vztahy, příprava učitelů,  rámcové vzdělávací progra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daktika přírodově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daktika přírodovědy a didaktika fyz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daktika přírodovědy a mezipředmětové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daktika přírodovědy a příprava učitel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daktika přírodovědy v éře R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Brockmeyerová-Fenclová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unikace fyzikálních poznatků přestupuje hranice fyziky do jejího nejbližšího okolí, k vědám, které fyzikální poznatky jako obecnější užívají, zvláště k vědám přírodním a k celé oblasti věd technických.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CNÁ DIDAK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aktika přírodově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aktika fyziky a astronomie, chemie, biologie a geologie, ge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198900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3860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508720" y="198900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508720" y="386028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daktika přírodovědy a didaktika fyzik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ti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jení roztříštěných sil oborových přírodovědných didaktik a posílení jejich význam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zšíření a zkvalitnění národní a zejména mezinárodní spoluprá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ýzkum a vývo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ordinace, zefektivnění a zkvalitnění výzkumu a vývoj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žnost individuální hlubší výzkumné specializace v dílčí problemat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irší společný záběr zkoumané problemati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tvoření výzkumné základny (přírodovědné didaktické laboratoře, ústavy  apod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většení platformy pro publikování výsledků práce (časopisy, konference, vědecká organizace, atd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lepšení podmínek pro vědecký růst (akreditace mezioborových doktorských  studijních programů, habilitačních a jmenovacích řízení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  Příprava učitel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kvalitnění pregraduální i postgraduální přípravy učitel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fektivnění výuky na učitelských fakultách (integrace předmětů apod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  Vazba na školskou prax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sazování názorů při tvorbě školských norem, kurikulárních materiálů a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sílení vazby na školskou praxi při přípravě učitelů zejména v reformní době  RVP (vzdělávací oblasti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kvalitnění a rozvoj tvorby výukových prostředků (učebnice, pomůcky atd.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 Vazba na další vědní obor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ordinovaná spolupráce s přírodními vědami, pedagogikou, psychologií,  sociologií aj. blízkými ob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ákladní role didaktiky přírodovědy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č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ordina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daktika přírodovědy a mezipředmětové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zipředmětová koordin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ah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as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ílov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ORDINACE nebo INTEGRAC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ou integrované témata dostatečně vyřešena odborníky  jednotlivých oborů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 tato integrovaná témata didakticky zpracovat (transformovat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třeba stanovit garanci oboru (předmětu) nad integrovaným tématem? Podle jakého kritéria bude tato případná garance stanove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 má vypadat celá didaktická struktura integrované přírodovědy pro určitý stupeň a typ školy, do níž je možno integrovaná a didakticky transformovaná témata sestav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9:51:48Z</dcterms:created>
  <dc:creator>Josef Trna</dc:creator>
  <dc:description/>
  <dc:language>en-US</dc:language>
  <cp:lastModifiedBy>Josef Trna</cp:lastModifiedBy>
  <dcterms:modified xsi:type="dcterms:W3CDTF">2005-04-27T18:39:39Z</dcterms:modified>
  <cp:revision>26</cp:revision>
  <dc:subject/>
  <dc:title>Snímek 1</dc:title>
</cp:coreProperties>
</file>