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9EC-F1A5-47F3-B4D0-E11B706A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4B1-06F2-40DD-B5BF-919E5B1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E02-EA9E-4553-A4AB-14668E05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038-DBD2-4E9C-8980-8DA3BB82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E56-F4E6-4C37-AE8E-1B21AF55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27FD-54BC-4FEE-BBC5-483A08B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A630-8F0D-40F3-B0B4-112435B1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83BE-CEBF-421A-B718-4A23A9A7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ED9-7B8E-47E5-8D7D-F693C60D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0FC-70AA-45CF-A01E-B5CB044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5D8-EC95-4E81-88F1-7CF7A4D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0DF-787F-4E1E-963A-60A6C459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535-69E5-41D4-97F3-9487C8C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5A3-5A6A-45D5-AE27-B7BC2B5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FCAE-8478-4AAF-BB31-F162D62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8AA1-581C-42F1-AE82-F31B61B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3074-B769-4D33-8341-2309AAF1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521-72F0-421B-A127-B1AF33A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600-D399-461A-9470-1F7B599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BD8-2274-4FB2-94FC-3F76B118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AC3-1A36-4DC1-8BE2-1A4DCD1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84D-A315-49AA-AACD-62D65993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F6B-D07F-4CA8-A392-58ED88D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EC0-7D44-4C96-8346-73612CE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7F5-F953-4926-A772-056CCABDE0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4DD-2500-499C-97A6-CA29869B65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8469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humil Vybíral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niverzita Hradec Králov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765000"/>
            <a:ext cx="66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cc"/>
                </a:solidFill>
                <a:latin typeface="Tahoma"/>
              </a:rPr>
              <a:t>Fundamentální experimenty </a:t>
            </a:r>
            <a:br>
              <a:rPr sz="6000"/>
            </a:br>
            <a:r>
              <a:rPr b="1" lang="cs-CZ" sz="6000" spc="-1" strike="noStrike">
                <a:solidFill>
                  <a:srgbClr val="ffffcc"/>
                </a:solidFill>
                <a:latin typeface="Tahoma"/>
              </a:rPr>
              <a:t>ve fyzice</a:t>
            </a:r>
            <a:br>
              <a:rPr sz="44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800" spc="-1" strike="noStrike">
                <a:solidFill>
                  <a:srgbClr val="ffffcc"/>
                </a:solidFill>
                <a:latin typeface="Arial"/>
              </a:rPr>
              <a:t>Tevatron -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vnitřek prst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380960"/>
            <a:ext cx="5834160" cy="5477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ř. 2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- Detektory gravitačních vln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alský laserový interferometr VIR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. 2003, Pisa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élka každého ramena je 3 k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696000" cy="448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Vesmírný interferometr LISA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program pro r. 2012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délka str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∆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5 milionů km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459080"/>
          <a:ext cx="7920000" cy="52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59080"/>
                    <a:ext cx="7920000" cy="52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8893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Fundamentální experimenty z hlediska historického vývoj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915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sty fyzikálního poznávání nebývají přím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zikové často museli provést řadu dílčích pozorování a experimentů než mohli provést jeden experiment fundament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cení vývoje několika fyzikálních oborů z hlediska experimentálních východis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Klasická mechani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ewtonovské období (L. da Vinci, G. B. Benedetti, G. Galilei, V. Viviani, G. A. Borelli, R. Hooke, M. Marci, Ch. Huyg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wtonva syntéza (16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lze označit určitý experiment za fundamentální - s výjimkou Galileových pokusů s volným pádem a pohybem po nakloněné rovině (Pisa, kolem r. 159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Klasická teorie gravitac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ewtonovské období (přelom 16.-17. stol.): pozorování planet T. Brahe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nalýza Joh. Keplerem - formulace tří zákonů o pohybu pl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on všeobecné gravitace (Newton, 16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rifikace a měření gravitační konstanty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Cavendish, 179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Cavendishovy torzní vá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. 1798, přesnost 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3800" cy="4789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Klasická teorie elektromagnetického po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konce 18. stol. byly známy jen některé jevy z elektřiny a magnetismu, a to pouze kvalitativně a bez vzájemné souvis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. 1785 provedl Coulomb fundamentální experiment, při němž měřil elektrostatické sily na torzních vah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Coulombova magnetostatická měření byla rovněž historicky významn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Fundamentální Coulombův elektrostatický experiment (1785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53240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ktrodynamik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. 1820 provádí Oersted jednoduchý    fundamentální heuristický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274160" cy="4152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ovinný kurz v doktorském studijním program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ktorský studijní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pecializace v pedagog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eorie vzděláván ve fyz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Fundamentální experimenty ve fyz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inová dotace:  1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ložený referát uvádí základní obrysy obsahové náplně tohoto kurz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základě experimentů Biota, Savarta formuluje r. 1821 Laplace zákon - druhý pilíř budoucí teorie elektromagnetického po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řetí pilíř -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o silovém působení mg. pole na proudový elemen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formuluje Ampère na základě svého fundamentálního experimentu z r. 1826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. 1831 M. Faraday - zákon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lektromagnetické induk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K němu dospívá po sedmiletém experimentování (zákon lze odvodit z předchozích zákonů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Faradayovy experimenty s elektromagnetickou indukcí (1831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303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peciální teorie rela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elsonův-Morleyův fundamentální experiment (1881, 18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4228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Obecná teorie relativity – teorie gravita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perimentální základ - hledání vztahu mezi hmotností setrvačnou a gravitač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lilei (~1590), Newton (1687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0,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essel (1827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2.10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ötvös (1890, 1909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3.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cke, Roll, Krotkov (196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1.10-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instein (1915): princip ekvivalence setrvačných a gravitačních si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Fundamentální experimenty z hlediska současného fyzikálního obrazu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181440" y="1988640"/>
            <a:ext cx="9325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fyzice je krásné to, že dlouhodobým vývojem nachází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řadu souvisl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zi jevy dříve pro pozorovatele nesouvisejícím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 původně fundamentální experimenty heuristické přecházejí do kategorie experimentů verifikační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méně vždy je cenné upozornit na historické souvislosti, aby bylo zřejmé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k příroda často velmi nerada odhaluje svá tajemst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ř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:budování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eorie elektromagnetického pol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m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TR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tu lze předtím vybudovat na základě přijetí principu relativity a postulátu o rychlosti světla ve vakuu jako univerzální fyzikální konstanty). Pak z fundamentálního experimentu přijmout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Coulombův záko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rozšířit pro případ, kdy se jedna částice v pozorovací soustavě pohybu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k provést jednoduchou relativistickou transformaci Coulombovy síly pro případ, kdy i druhá částice bude v setrvačném pohyb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hradíme tak další dva základní zákony - původně experimentální – budou nyní jen verifikač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Význam experimentu při výuce fyzik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álný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monstrační experi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á důležité postavení při výuce fyziky na školách všech stupň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řazení experimentu do výuky klade nároky na čas a zkušenosti demonstrátora, na vybavení kabinetu i na vůli učitele výklad při výuce experimentem obohat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ada učitelů i přes časovou oživuje výklad vhodným experimentem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u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žáka pro fyzi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k dělat pokus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tradičn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dnoduš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případně i v domácích podmínkách, anebo naopak zcela moderně s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yužitím počítač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ná j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uristická forma výuk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ět navodit situace, aby žák určité poznatky s využitím experimentu sám pro sebe objevov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znamné jsou zejmén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vůrčí experimentální úlo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u kterých se požaduje, aby student nejen něco naměřil, avšak aby vymyslel i metod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vůrčí úlohy jsou využívány v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yzikální olympiád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kazuje, že i ti nejlepší čeští studenti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jsou na experimentování dobře připraven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ybí jim zručnost i zkuše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yzikální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918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6. století, renes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lileo Galilei buduje vědeckou metodu zkoumání příro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Vytvořit hypotéz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a základě dosavadní zkušenosti, intuice a popř. vrozených prav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Ověřit hypotéz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smyslovou zkušeností nebo experimen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rovést dedukc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hypotézy na jevy dosud neznám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Vědecké experimenty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uristické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(objevné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kdy účelem je nalézt dosud neznámou zákonitost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verifikační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(ověřovací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dy účelem je ověřit platnost zákona, který byl získán deduktivním teoretickým postupem, anebo ověřit meze platnosti zákona pro jiné podmí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21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Vědecké experimenty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z jiného hlediska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reálné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– sledujeme reálně probíhající fyzikální děje a měříme je reálnými přístroji v reálném čas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myšlenkové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kově navozujeme podmínky a postup, očekávané výsledky se neměří, avšak deduktivně se odvozují ze známých zákonů za idealizovaných podmínek. Přináší nové poznatky bez ohledu na to, zda je skutečně realizovateln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čítačové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tematicky se simuluje průběh možných jevů postavený na aplikaci známých fyz. zákon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undamentální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experime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erimenty, které tvoří základní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ýchodisk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 utváření fyzikální teorie anebo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věřují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jejich významné teoretické deduk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tří k nim jak významné experimenty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euristické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tak některé experimenty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erifikační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Vývoj náročnosti experiment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kdejší romantika fyzikálního bádá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ze 17. stol.: Otto v. Guericke experimentuje r. 1672 s třecím „elektrickým strojem“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408720" cy="3881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časné fyzikální experime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žitost a rozměrnost experimentálních za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é týmy vědců (vytrácí se romantika vědeckého bádání a osobnost jednotliv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á finanční náro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mezinárodní spolu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ř. 1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- budování standardního modelu mikro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35280" y="2394000"/>
          <a:ext cx="554508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394000"/>
                    <a:ext cx="55450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619280" y="155736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ahoma"/>
              </a:rPr>
              <a:t>Tevatron – energie protonů až 2 TeV</a:t>
            </a:r>
            <a:br>
              <a:rPr sz="2000"/>
            </a:br>
            <a:r>
              <a:rPr b="1" i="1" lang="cs-CZ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ermilab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u Chicaga, průměr dráhy 2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9:59:49Z</dcterms:created>
  <dc:creator>Bohumil Vybíral</dc:creator>
  <dc:description/>
  <dc:language>en-US</dc:language>
  <cp:lastModifiedBy>Bohumil Vybíral</cp:lastModifiedBy>
  <dcterms:modified xsi:type="dcterms:W3CDTF">2005-04-30T05:24:22Z</dcterms:modified>
  <cp:revision>15</cp:revision>
  <dc:subject/>
  <dc:title>        </dc:title>
</cp:coreProperties>
</file>